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5" y="0"/>
                </a:moveTo>
                <a:arcTo wR="5" hR="5" stAng="16200000" swAng="-5400000"/>
                <a:lnTo>
                  <a:pt x="0" y="31538"/>
                </a:lnTo>
                <a:arcTo wR="5" hR="5" stAng="10800000" swAng="-5400000"/>
                <a:lnTo>
                  <a:pt x="21595" y="3154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dt" idx="22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sldImg"/>
          </p:nvPr>
        </p:nvSpPr>
        <p:spPr>
          <a:xfrm>
            <a:off x="9154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ftr" idx="23"/>
          </p:nvPr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6"/>
          <p:cNvSpPr>
            <a:spLocks noGrp="1"/>
          </p:cNvSpPr>
          <p:nvPr>
            <p:ph type="sldNum" idx="24"/>
          </p:nvPr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1BF3E-C29B-47ED-8330-6916A7A5B2A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6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Rectangle 7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58E16-347D-4BE8-950A-AA432005BD85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Text Box 1"/>
          <p:cNvSpPr/>
          <p:nvPr/>
        </p:nvSpPr>
        <p:spPr>
          <a:xfrm>
            <a:off x="868320" y="744480"/>
            <a:ext cx="50594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31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509C3-EF3D-4EFE-B965-13FEC044C0BF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F378C-44C9-47C2-848B-50C5A50FD2E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B05F11-3023-4F8E-91E7-E56DFE0FBA8D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39961-1674-42E3-91B4-2CD4F7AD650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C8A23-4364-4EDD-876B-393946E1FAF7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F4BFC-D0C5-4C28-BC86-E6E606CCEF2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68A2E7-5D81-4C98-B9F6-EF3651AB6E9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5145E5-869C-4B1D-A32E-10DCD8DA2432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08D75D-5D5B-4C1E-9783-CE4C0D19C371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3B9E7-381D-48AE-B655-C444BF500B6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e ne vais développer le premier point ca concerne davantage les établissements que les SESSAD qui interviennent dans les milieux de vie ordina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BD6D7-74E4-4B28-B21A-7E487612F17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EED40-A882-4F06-9522-2EB1D48382AE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CA02E6-1DEC-4001-A280-C7036F610173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B8814-EEAF-4875-B004-9D1E30BB238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F9D25-30D5-465C-8A55-3638760B6F7B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06480" y="4716360"/>
            <a:ext cx="498168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Espace réservé du pied de page 3"/>
          <p:cNvSpPr/>
          <p:nvPr/>
        </p:nvSpPr>
        <p:spPr>
          <a:xfrm>
            <a:off x="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Nom de l'intervena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Espace réservé du numéro de diapositive 4"/>
          <p:cNvSpPr/>
          <p:nvPr/>
        </p:nvSpPr>
        <p:spPr>
          <a:xfrm>
            <a:off x="3851280" y="9429840"/>
            <a:ext cx="2943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A0E96D-E0CB-4A0E-895A-07287530B249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4F00-7A3B-46FB-9AEB-9DC8C671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E39-9F3A-40BB-B9DC-6D015306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7E8B-E984-4641-84F5-22AE1948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9762-6F20-4206-8855-5BDDEF444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691C-3942-423E-A0A9-2A595C02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A347-EA46-4CE4-A4EE-567D6D71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7B57-4048-48E2-BB0D-63985F28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5DC5-85DC-499F-A026-73062AE0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4FAB-1A6C-432F-A072-591FDC4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BC56-B873-4792-BA26-7819DFC8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2305-F90D-4D77-AB72-214738A7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785E-88B1-4C0E-954F-375E1BFB9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FB18-8C56-4415-8D84-B2BC38A6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0474-6943-4211-A1CC-34B6CD09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E8C9-FE81-44D9-9031-4410D769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5D7-5E42-4260-8A16-3AAE6313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D479-016B-43DA-8142-60C5A625C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29C2C4-09E8-47AB-9E4F-6412DA4D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8C3608-1F0C-4923-8F6E-4ACCB392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BA457-3A38-451A-8A64-33ECF41F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CCE8F-4452-47FC-B782-0CA6850CE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305E93-B1A5-47A3-9601-57EBC5FED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2D4A-311A-4CD1-A9FC-B1F3B35A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51D39-3893-418E-A192-1008A9CC8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D67C66-BF1D-4ACE-B379-E9E190C3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F135AD-A878-40FA-8766-DC418F5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2C3A01-40BC-4FB3-8DE4-98134233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69C15-051B-45C5-82D4-E2FAEAA0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85E7B8-7C5A-4008-91CD-A2AC9CE21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6972DE-A325-4DAB-8047-0F4AFD283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E8C7E-02A1-4B75-9049-92F37395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1F29D-7F6C-437A-9AA9-1DE828D9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AF80DC-0EE0-4127-904A-3C64795E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42E4-EC3A-41DD-A65A-73E6D632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4D82A-8873-4171-92CE-7A5DB8F0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AC851-BCAE-476F-887E-E23D067D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938F0-C120-4A66-8FFD-6820F6F4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DA33C-FB46-4CD9-AD9F-DAAA161BA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1911C-E5E3-4164-889F-1F1CFD7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1C0CF-1447-4026-82BA-71781A26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7044D-B8CD-4B47-86F0-4AB9E4D9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5961F-577C-4A8A-8398-5D5789CE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9299-BABD-46BC-9F8B-AEE3CF54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BB47F4-3798-4F1D-B66F-3993FCD6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6493-8C78-4DA5-B9D7-4A97013E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F13280-78BD-4B22-B7BC-7401B3E1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DBAA6E-9616-451E-A137-9977D86D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CCE62F-1EAB-459B-B8CB-BEFDD56B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A3BBBE-41DA-48A2-A5A0-AF687F078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5AFB9-F394-46A5-8B3E-FF30D92E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ED42F4-A746-4A99-A006-E061FA69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D519D-09A7-4B0B-B74A-AB76DC4C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BCC3F-3F78-4E31-80D3-C794A276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60A5B6-5D73-4413-A51A-7B45C81A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C6D8D-19FF-4E95-A89E-B4E53415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20AB-D501-4D52-BC07-1D4288E9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14A3FB-A781-451F-8D38-DA99FDDBF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4AD481-956C-4846-BB06-F119F38C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07EB1D-586D-439D-87B7-138045A8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0B603F-D367-4882-AC8F-B9492B42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FE7B23-0B57-4609-945A-CEB4FF39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1413E1-AF9F-40F5-B6F9-A1A5A8007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E6CD2C-637B-4F0D-938B-6183E9A6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905200-AC4A-4719-AE7C-7592D0BD2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17DAFD-A527-4919-A2E0-4B295895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B85B04-908E-4837-93CC-50E72738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D702-20C3-427B-8450-589BF2C47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6F23B-2C20-429C-8D64-D3FF7A8E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D9F62D-C797-4B4D-B7BD-3EC88D792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93A68C-FDDC-4698-91D5-344D9E879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F04AA2-41F5-4428-8F75-6CC63238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C70E8-769A-408A-B9E7-B53F7340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F52C89-15F2-4BE8-90C5-4B92F502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BB4DD1-5A6F-4F8E-8D0F-A25AFC64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433CC8-563D-4FDD-B612-C8DC3BD7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AA7D66-8236-4743-8CED-8A278C38B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9D0BB8-3B62-46C4-97EA-8169B53E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660A-9831-4049-82A4-F91EB6DA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67C4BA-27A5-4BA6-9449-6DD887E8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F572E0-8077-49C6-8675-CA6760A5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12C24-A09D-4DED-8B5F-FF637EE2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283280" y="414684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D6E172-40E2-4D51-ADB2-D70388AC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684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298188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506920" y="4146840"/>
            <a:ext cx="240444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45635-A453-4EAB-897F-BD45EB80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840"/>
            <a:ext cx="7467480" cy="23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81B-8AAA-451A-95F1-8A6E0309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508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4C337D-7ECD-448F-BD63-0516F4B3D30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Connecteur droit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Ellipse 28"/>
          <p:cNvSpPr/>
          <p:nvPr/>
        </p:nvSpPr>
        <p:spPr>
          <a:xfrm>
            <a:off x="1309680" y="4865760"/>
            <a:ext cx="641520" cy="644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Ellipse 30"/>
          <p:cNvSpPr/>
          <p:nvPr/>
        </p:nvSpPr>
        <p:spPr>
          <a:xfrm>
            <a:off x="1663560" y="5789520"/>
            <a:ext cx="274680" cy="2732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Ellipse 31"/>
          <p:cNvSpPr/>
          <p:nvPr/>
        </p:nvSpPr>
        <p:spPr>
          <a:xfrm>
            <a:off x="1905120" y="4495680"/>
            <a:ext cx="365040" cy="366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AutoShape 4"/>
          <p:cNvSpPr/>
          <p:nvPr/>
        </p:nvSpPr>
        <p:spPr>
          <a:xfrm>
            <a:off x="-2496960" y="132732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21453" y="2368"/>
                </a:moveTo>
                <a:cubicBezTo>
                  <a:pt x="-9409" y="7280"/>
                  <a:pt x="-1536" y="18993"/>
                  <a:pt x="-1536" y="32000"/>
                </a:cubicBezTo>
                <a:cubicBezTo>
                  <a:pt x="-1536" y="-20530"/>
                  <a:pt x="-9409" y="-8817"/>
                  <a:pt x="-21453" y="-3905"/>
                </a:cubicBezTo>
                <a:cubicBezTo>
                  <a:pt x="-21454" y="-3905"/>
                  <a:pt x="-21454" y="-3905"/>
                  <a:pt x="-21454" y="-3905"/>
                </a:cubicBezTo>
                <a:lnTo>
                  <a:pt x="-21453" y="-3904"/>
                </a:lnTo>
                <a:lnTo>
                  <a:pt x="-21453" y="2368"/>
                </a:lnTo>
                <a:lnTo>
                  <a:pt x="-21454" y="2368"/>
                </a:lnTo>
                <a:cubicBezTo>
                  <a:pt x="-21454" y="2368"/>
                  <a:pt x="-21454" y="2368"/>
                  <a:pt x="-21453" y="2368"/>
                </a:cubicBez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-3205080" y="260280"/>
            <a:ext cx="4038480" cy="403884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-14542" y="6246"/>
                </a:moveTo>
                <a:cubicBezTo>
                  <a:pt x="-6364" y="12279"/>
                  <a:pt x="-1536" y="21837"/>
                  <a:pt x="-1536" y="32000"/>
                </a:cubicBezTo>
                <a:cubicBezTo>
                  <a:pt x="-1536" y="-23374"/>
                  <a:pt x="-6364" y="-13816"/>
                  <a:pt x="-14542" y="-7783"/>
                </a:cubicBezTo>
                <a:cubicBezTo>
                  <a:pt x="-14543" y="-7783"/>
                  <a:pt x="-14543" y="-7783"/>
                  <a:pt x="-14543" y="-7783"/>
                </a:cubicBezTo>
                <a:lnTo>
                  <a:pt x="-14542" y="-7782"/>
                </a:lnTo>
                <a:lnTo>
                  <a:pt x="-14542" y="6246"/>
                </a:lnTo>
                <a:lnTo>
                  <a:pt x="-14543" y="6246"/>
                </a:lnTo>
                <a:cubicBezTo>
                  <a:pt x="-14543" y="6246"/>
                  <a:pt x="-14543" y="6246"/>
                  <a:pt x="-14542" y="6246"/>
                </a:cubicBezTo>
                <a:close/>
              </a:path>
            </a:pathLst>
          </a:cu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7DE82E-234F-4D21-AA35-D89B29316B34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Ellipse 11"/>
          <p:cNvSpPr/>
          <p:nvPr/>
        </p:nvSpPr>
        <p:spPr>
          <a:xfrm>
            <a:off x="8156520" y="5715000"/>
            <a:ext cx="549360" cy="5508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1BAD05-8D9B-4BFD-8E64-25786E66EB0A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Connecteur droit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Connecteur droit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Connecteur droit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Connecteur droit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Connecteur droit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Ellipse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Ellipse 27"/>
          <p:cNvSpPr/>
          <p:nvPr/>
        </p:nvSpPr>
        <p:spPr>
          <a:xfrm>
            <a:off x="1324080" y="4865760"/>
            <a:ext cx="642960" cy="644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Ellipse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Ellipse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Ellipse 30"/>
          <p:cNvSpPr/>
          <p:nvPr/>
        </p:nvSpPr>
        <p:spPr>
          <a:xfrm>
            <a:off x="1879560" y="4481640"/>
            <a:ext cx="365040" cy="3632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Connecteur droit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fff39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7127E2-E6A6-4967-9E25-8D67E3A59BC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Connecteur droi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Connecteur droi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Connecteur droi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llipse 11"/>
          <p:cNvSpPr/>
          <p:nvPr/>
        </p:nvSpPr>
        <p:spPr>
          <a:xfrm>
            <a:off x="8156520" y="5715000"/>
            <a:ext cx="549360" cy="5508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B74C13-97F7-4D12-98BE-BDE147729C1D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Connecteur droit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Connecteur droi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Connecteur droi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Connecteur droi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Ellipse 20"/>
          <p:cNvSpPr/>
          <p:nvPr/>
        </p:nvSpPr>
        <p:spPr>
          <a:xfrm>
            <a:off x="8156520" y="5715000"/>
            <a:ext cx="549360" cy="5508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A4F7D2-EB4A-4FCC-87BD-8506349CD99B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Connecteur droit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Ellipse 14"/>
          <p:cNvSpPr/>
          <p:nvPr/>
        </p:nvSpPr>
        <p:spPr>
          <a:xfrm>
            <a:off x="8156520" y="5715000"/>
            <a:ext cx="549360" cy="5508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Connecteur droi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Connecteur droi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Connecteur droit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Connecteur droi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EF8FEE-EB0A-4724-B06B-5AED1F9C96F7}" type="slidenum">
              <a:rPr b="1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575f6d"/>
                </a:solidFill>
                <a:latin typeface="Times New Roman"/>
              </a:rPr>
              <a:t>df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2"/>
          <p:cNvSpPr/>
          <p:nvPr/>
        </p:nvSpPr>
        <p:spPr>
          <a:xfrm>
            <a:off x="2484360" y="3150360"/>
            <a:ext cx="6508800" cy="1677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Calibri"/>
              </a:rPr>
              <a:t>L’accompagnement des personnes en situation de vulnérabilité :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300" spc="-1" strike="noStrike">
                <a:solidFill>
                  <a:srgbClr val="ffffff"/>
                </a:solidFill>
                <a:latin typeface="Calibri"/>
              </a:rPr>
              <a:t>quelles réponses du médico-social ?</a:t>
            </a:r>
            <a:r>
              <a:rPr b="1" lang="fr-FR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8"/>
          <p:cNvSpPr/>
          <p:nvPr/>
        </p:nvSpPr>
        <p:spPr>
          <a:xfrm>
            <a:off x="6227640" y="165240"/>
            <a:ext cx="28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  <a:ea typeface="MS PGothic"/>
              </a:rPr>
              <a:t>Carole PEINT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alibri"/>
                <a:ea typeface="MS PGothic"/>
              </a:rPr>
              <a:t>Déléguée Fédér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e75c01"/>
                </a:solidFill>
                <a:latin typeface="Calibri"/>
                <a:ea typeface="MS PGothic"/>
              </a:rPr>
              <a:t>www.ancreai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Image 1" descr=""/>
          <p:cNvPicPr/>
          <p:nvPr/>
        </p:nvPicPr>
        <p:blipFill>
          <a:blip r:embed="rId1"/>
          <a:stretch/>
        </p:blipFill>
        <p:spPr>
          <a:xfrm>
            <a:off x="0" y="0"/>
            <a:ext cx="4005360" cy="2276640"/>
          </a:xfrm>
          <a:prstGeom prst="rect">
            <a:avLst/>
          </a:prstGeom>
          <a:ln w="0">
            <a:noFill/>
          </a:ln>
        </p:spPr>
      </p:pic>
      <p:sp>
        <p:nvSpPr>
          <p:cNvPr id="364" name="ZoneTexte 1"/>
          <p:cNvSpPr/>
          <p:nvPr/>
        </p:nvSpPr>
        <p:spPr>
          <a:xfrm>
            <a:off x="2001960" y="5859360"/>
            <a:ext cx="699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2000" spc="-1" strike="noStrike">
                <a:solidFill>
                  <a:srgbClr val="e75c01"/>
                </a:solidFill>
                <a:latin typeface="Calibri"/>
              </a:rPr>
              <a:t>Conseil Départemental du Loiret : 2</a:t>
            </a:r>
            <a:r>
              <a:rPr b="1" i="1" lang="fr-FR" sz="2000" spc="-1" strike="noStrike" baseline="30000">
                <a:solidFill>
                  <a:srgbClr val="e75c01"/>
                </a:solidFill>
                <a:latin typeface="Calibri"/>
              </a:rPr>
              <a:t>e</a:t>
            </a:r>
            <a:r>
              <a:rPr b="1" i="1" lang="fr-FR" sz="2000" spc="-1" strike="noStrike">
                <a:solidFill>
                  <a:srgbClr val="e75c01"/>
                </a:solidFill>
                <a:latin typeface="Calibri"/>
              </a:rPr>
              <a:t> rencontre de l’Autonomi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fr-FR" sz="2000" spc="-1" strike="noStrike">
                <a:solidFill>
                  <a:srgbClr val="e75c01"/>
                </a:solidFill>
                <a:latin typeface="Calibri"/>
              </a:rPr>
              <a:t>16 janvier 201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04520" y="4428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La révolution législativ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66640" y="933120"/>
            <a:ext cx="746784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eb6e5a"/>
                </a:solidFill>
                <a:latin typeface="Calibri"/>
              </a:rPr>
              <a:t>La révolution législative des années 2000.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L’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esprit des lois sanitaires, médico-sociales et sociales des années 2000 (de 2002 à 2009), ont en commun de 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3D2D39-558B-4ECD-B2E5-753F92656D09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Espace réservé du contenu 2"/>
          <p:cNvSpPr/>
          <p:nvPr/>
        </p:nvSpPr>
        <p:spPr>
          <a:xfrm>
            <a:off x="700200" y="2060640"/>
            <a:ext cx="761508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rendre en compte </a:t>
            </a: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les droits et la parole de l’usager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, en considérant la personne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comme acteur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e sa propre santé  </a:t>
            </a:r>
            <a:r>
              <a:rPr b="0" i="1" lang="fr-FR" sz="2000" spc="-1" strike="noStrike">
                <a:solidFill>
                  <a:srgbClr val="000099"/>
                </a:solidFill>
                <a:latin typeface="Calibri"/>
              </a:rPr>
              <a:t>(y compris loi mars 2002 sur les droits des malades)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rivilégier une </a:t>
            </a: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approche situationnelle et territoriale</a:t>
            </a:r>
            <a:r>
              <a:rPr b="0" lang="fr-FR" sz="2000" spc="-1" strike="noStrike">
                <a:solidFill>
                  <a:srgbClr val="e75c01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à une approch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populationnelle et sectorielle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 :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l’objet des politiques est la situation de vulnérabilité 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répondre de façon articulée et cohérente à l’ensemble des besoins et attentes de la personne, dans le cadre d’une </a:t>
            </a: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stratégie d’intervention globale et partagée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 : « 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plan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ersonnalisé 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200" indent="-259200" algn="just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veiller à </a:t>
            </a: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éviter les ruptures</a:t>
            </a:r>
            <a:r>
              <a:rPr b="0" lang="fr-FR" sz="2000" spc="-1" strike="noStrike">
                <a:solidFill>
                  <a:srgbClr val="e75c01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et à inscrire les interventions dans une dynamique qui a du sens pour la personne  :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« parcours de vie »,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« parcours de soins »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704520" y="44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La révolution « douce 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39280" y="1052640"/>
            <a:ext cx="7605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just">
              <a:lnSpc>
                <a:spcPct val="10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e75c01"/>
                </a:solidFill>
                <a:latin typeface="Calibri"/>
              </a:rPr>
              <a:t>Mais cette révolution législative ne s’est pas concrétisée par </a:t>
            </a:r>
            <a:r>
              <a:rPr b="1" lang="fr-FR" sz="2200" spc="-1" strike="noStrike">
                <a:solidFill>
                  <a:srgbClr val="e75c01"/>
                </a:solidFill>
                <a:latin typeface="Calibri"/>
              </a:rPr>
              <a:t>une révolution organisationnelle !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10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En effet, alors que les lois 2000 introduisaient un changement radical dans la façon d’aborder les besoins et attentes des personnes en situation de handicap et d’y répondre, on constate </a:t>
            </a:r>
            <a:r>
              <a:rPr b="1" lang="fr-FR" sz="2200" spc="-1" strike="noStrike">
                <a:solidFill>
                  <a:srgbClr val="ff6600"/>
                </a:solidFill>
                <a:latin typeface="Calibri"/>
              </a:rPr>
              <a:t>un écart majeur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entre </a:t>
            </a: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l’esprit des loi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’une part, et </a:t>
            </a: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l’organisation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es équipements, la règlementation, la tarification, ou encore les outils de partage des informations entre les partenaires, d’autre part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10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Cette période dite de </a:t>
            </a:r>
            <a:r>
              <a:rPr b="1" lang="fr-FR" sz="2200" spc="-1" strike="noStrike">
                <a:solidFill>
                  <a:srgbClr val="ff6600"/>
                </a:solidFill>
                <a:latin typeface="Calibri"/>
              </a:rPr>
              <a:t>« révolution douce »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a été surtout consacrée à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l’appropriation des nouveaux principes d’intervention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 et à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définir collectivement les objectifs à atteindre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ou encore à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expérimenter des pratiques innovantes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 et se confronter ainsi aux freins au changement et aux facteurs de réussite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31170F-CED6-419B-AC38-43A2C357B5D3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04520" y="44280"/>
            <a:ext cx="746748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La révolution organisationnelle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539280" y="1052640"/>
            <a:ext cx="76057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Avec la loi de modernisation de notre système de santé (2016), la démarche Réponse Accompagnée pour tous (2015), la stratégie quinquennale de l’évolution de l’offre médico-sociale (2016), se sont ouvert de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nombreux chantiers nationaux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On est depuis peu dans une phase de </a:t>
            </a:r>
            <a:r>
              <a:rPr b="1" lang="fr-FR" sz="2200" spc="-1" strike="noStrike">
                <a:solidFill>
                  <a:srgbClr val="ff9900"/>
                </a:solidFill>
                <a:latin typeface="Calibri"/>
              </a:rPr>
              <a:t>révolution organisationnelle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, de mise en œuvre des principes de la loi, en construisant de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nouveaux outil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et de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nouvelles règles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 de fonctionnement, de financement, etc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F7F407-FBE3-4B9A-BFF7-9141FA4D4CB4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ZoneTexte 1"/>
          <p:cNvSpPr/>
          <p:nvPr/>
        </p:nvSpPr>
        <p:spPr>
          <a:xfrm>
            <a:off x="684360" y="4149720"/>
            <a:ext cx="7704000" cy="212004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</a:t>
            </a:r>
            <a:r>
              <a:rPr b="0" lang="fr-FR" sz="1800" spc="-1" strike="noStrike">
                <a:solidFill>
                  <a:srgbClr val="000099"/>
                </a:solidFill>
                <a:latin typeface="Calibri"/>
              </a:rPr>
              <a:t>  </a:t>
            </a: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Nouvelles règles d’allocation des budgets ESMS 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(Serafin-PH), </a:t>
            </a: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systèmes d’information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 opérationnels pour identifier les personnes en attente, connaître le nombre et les profils des personnes bénéficiant d’une reconnaissance MDPH, conduire des </a:t>
            </a: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Diagnostics Territoriaux Partagés 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qui soient à même d’aboutir à une </a:t>
            </a:r>
            <a:r>
              <a:rPr b="0" lang="fr-FR" sz="1900" spc="-1" strike="noStrike" u="sng">
                <a:solidFill>
                  <a:srgbClr val="000099"/>
                </a:solidFill>
                <a:uFillTx/>
                <a:latin typeface="Calibri"/>
              </a:rPr>
              <a:t>organisation de solutions 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adaptées aux besoins et attentes des publics et qui garantissent une utilisation efficiente des expertises et des ressources mobilisables (et donc coordonnées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04520" y="4759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Une mise en mouvement du secteur médico-social qui s’accélère 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CFEF874-85AF-4EE0-999B-60ECB06D1626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Image 4" descr=""/>
          <p:cNvPicPr/>
          <p:nvPr/>
        </p:nvPicPr>
        <p:blipFill>
          <a:blip r:embed="rId1"/>
          <a:stretch/>
        </p:blipFill>
        <p:spPr>
          <a:xfrm>
            <a:off x="1258920" y="2189160"/>
            <a:ext cx="655308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93360" y="164880"/>
            <a:ext cx="7467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Une avalanche de textes règlementaires, outils, informations...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E05934-B430-4292-AE0C-9D5D5F31FF68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Image 3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6087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569080" cy="17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alibri"/>
              </a:rPr>
              <a:t>Un manque de visibilité qui produit de la confusion, perte de sens, de ligne directrice…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61F881-0A18-4177-946A-90994ED46DB3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Image 2" descr=""/>
          <p:cNvPicPr/>
          <p:nvPr/>
        </p:nvPicPr>
        <p:blipFill>
          <a:blip r:embed="rId1"/>
          <a:stretch/>
        </p:blipFill>
        <p:spPr>
          <a:xfrm>
            <a:off x="1701720" y="1989000"/>
            <a:ext cx="5977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7640" y="164880"/>
            <a:ext cx="8567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Des actualités qui vont dans le sens</a:t>
            </a:r>
            <a:br>
              <a:rPr sz="2800"/>
            </a:b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de la simplification et de l’articulation…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488E6C1-B06C-4717-98A7-C21C3DDD658F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Image 4" descr=""/>
          <p:cNvPicPr/>
          <p:nvPr/>
        </p:nvPicPr>
        <p:blipFill>
          <a:blip r:embed="rId1"/>
          <a:stretch/>
        </p:blipFill>
        <p:spPr>
          <a:xfrm>
            <a:off x="2916360" y="1797120"/>
            <a:ext cx="2482560" cy="4660920"/>
          </a:xfrm>
          <a:prstGeom prst="rect">
            <a:avLst/>
          </a:prstGeom>
          <a:ln w="0">
            <a:noFill/>
          </a:ln>
        </p:spPr>
      </p:pic>
      <p:sp>
        <p:nvSpPr>
          <p:cNvPr id="414" name="ZoneTexte 2"/>
          <p:cNvSpPr/>
          <p:nvPr/>
        </p:nvSpPr>
        <p:spPr>
          <a:xfrm>
            <a:off x="324000" y="2354400"/>
            <a:ext cx="25192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e75c01"/>
                </a:solidFill>
                <a:latin typeface="Calibri"/>
              </a:rPr>
              <a:t>Rapport parlementai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e75c01"/>
                </a:solidFill>
                <a:latin typeface="Calibri"/>
              </a:rPr>
              <a:t>(Mai 201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113 propos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pour amélior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e quotidie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es personnes en situation de handi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ZoneTexte 6"/>
          <p:cNvSpPr/>
          <p:nvPr/>
        </p:nvSpPr>
        <p:spPr>
          <a:xfrm>
            <a:off x="5425920" y="2233440"/>
            <a:ext cx="2962440" cy="28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alibri"/>
              </a:rPr>
              <a:t>Multiplicité et compléxité </a:t>
            </a:r>
            <a:r>
              <a:rPr b="0" lang="fr-FR" sz="1800" spc="-1" strike="noStrike">
                <a:solidFill>
                  <a:srgbClr val="000099"/>
                </a:solidFill>
                <a:latin typeface="Calibri"/>
              </a:rPr>
              <a:t>des formalités et des norm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alibri"/>
              </a:rPr>
              <a:t>Pluralité d’acteurs et de financeur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alibri"/>
              </a:rPr>
              <a:t>Insuffisance de pilotage et de gouvernance </a:t>
            </a:r>
            <a:r>
              <a:rPr b="0" lang="fr-FR" sz="1800" spc="-1" strike="noStrike">
                <a:solidFill>
                  <a:srgbClr val="000099"/>
                </a:solidFill>
                <a:latin typeface="Calibri"/>
              </a:rPr>
              <a:t>entre l’Etat et les institutions décentralisées, le sanitaire et le médico-social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93720" y="164880"/>
            <a:ext cx="74786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Des actualités qui vont dans le sens</a:t>
            </a:r>
            <a:br>
              <a:rPr sz="2800"/>
            </a:br>
            <a:r>
              <a:rPr b="1" lang="fr-FR" sz="2800" spc="-1" strike="noStrike">
                <a:solidFill>
                  <a:srgbClr val="ff6600"/>
                </a:solidFill>
                <a:latin typeface="Calibri"/>
              </a:rPr>
              <a:t>de la simplification et l’articulation…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25F4B2-0853-4527-A3A7-FB6F523F8911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8" name="Image 2" descr=""/>
          <p:cNvPicPr/>
          <p:nvPr/>
        </p:nvPicPr>
        <p:blipFill>
          <a:blip r:embed="rId1"/>
          <a:stretch/>
        </p:blipFill>
        <p:spPr>
          <a:xfrm>
            <a:off x="2325600" y="2179800"/>
            <a:ext cx="2894040" cy="3429000"/>
          </a:xfrm>
          <a:prstGeom prst="rect">
            <a:avLst/>
          </a:prstGeom>
          <a:ln w="0">
            <a:noFill/>
          </a:ln>
        </p:spPr>
      </p:pic>
      <p:sp>
        <p:nvSpPr>
          <p:cNvPr id="419" name="ZoneTexte 6"/>
          <p:cNvSpPr/>
          <p:nvPr/>
        </p:nvSpPr>
        <p:spPr>
          <a:xfrm>
            <a:off x="108000" y="2354400"/>
            <a:ext cx="25192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e75c01"/>
                </a:solidFill>
                <a:latin typeface="Calibri"/>
              </a:rPr>
              <a:t>Rapport SEN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e75c01"/>
                </a:solidFill>
                <a:latin typeface="Calibri"/>
              </a:rPr>
              <a:t>(Oct. 2018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Financement de l’accompagnement médico-social des personnes handicapé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ZoneTexte 7"/>
          <p:cNvSpPr/>
          <p:nvPr/>
        </p:nvSpPr>
        <p:spPr>
          <a:xfrm>
            <a:off x="5219640" y="2233440"/>
            <a:ext cx="345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Inclusion 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= acteurs plus nombreux et diversifié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Enjeu majeur de la coordination 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et de la </a:t>
            </a: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rationalisation </a:t>
            </a:r>
            <a:r>
              <a:rPr b="0" lang="fr-FR" sz="1900" spc="-1" strike="noStrike">
                <a:solidFill>
                  <a:srgbClr val="000099"/>
                </a:solidFill>
                <a:latin typeface="Calibri"/>
              </a:rPr>
              <a:t>des actions de chacu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900" spc="-1" strike="noStrike">
                <a:solidFill>
                  <a:srgbClr val="000099"/>
                </a:solidFill>
                <a:latin typeface="Calibri"/>
              </a:rPr>
              <a:t>Créer une Plateforme Territoriale du Handicap (PTH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55280" y="164880"/>
            <a:ext cx="74674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Nous sommes dans une </a:t>
            </a:r>
            <a:br>
              <a:rPr sz="3600"/>
            </a:b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période de transition 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0E4C7C8-60DF-4E76-B91B-F473C5B0BFB9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3" name="Image 2" descr=""/>
          <p:cNvPicPr/>
          <p:nvPr/>
        </p:nvPicPr>
        <p:blipFill>
          <a:blip r:embed="rId1"/>
          <a:stretch/>
        </p:blipFill>
        <p:spPr>
          <a:xfrm>
            <a:off x="1476360" y="1852560"/>
            <a:ext cx="61200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46748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e75c01"/>
                </a:solidFill>
                <a:latin typeface="Calibri"/>
              </a:rPr>
              <a:t>PERIODE DE TRANSIT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468000" y="1628640"/>
            <a:ext cx="7467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Passer de la « révolution législative » 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des années 2000 et 2010 : lois 2002, 2005, 2009 (HPST), 2015 (adaptation de la société au vieillissement), 2016 (loi santé) à la </a:t>
            </a: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« révolution organisationnelle »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Le virage inclusif </a:t>
            </a: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: 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forte volonté politique de cabinet du Secrétariat d’Etat aux personnes handicapées (expérimentation de territoires « 100% inclusif »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Dans un contexte budgétaire contraint 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: nombreux arbitrages financiers, qui passent par une évaluation fine des besoins et l’objectivation des ressources utilisées au regard des effets / résultat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E96228-C313-4F3A-B986-D5E126201BAF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55480" y="115920"/>
            <a:ext cx="8002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e75c01"/>
                </a:solidFill>
                <a:latin typeface="Calibri"/>
              </a:rPr>
              <a:t>LES PRÉMISSES DU SECTEUR MÉDICO-SOCI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B1E1A2F-D5D6-4795-9DF2-557FBDE02A6B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Espace réservé du contenu 2"/>
          <p:cNvSpPr/>
          <p:nvPr/>
        </p:nvSpPr>
        <p:spPr>
          <a:xfrm>
            <a:off x="555480" y="1268280"/>
            <a:ext cx="79930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1</a:t>
            </a:r>
            <a:r>
              <a:rPr b="1" lang="fr-FR" sz="2000" spc="-1" strike="noStrike" baseline="30000">
                <a:solidFill>
                  <a:srgbClr val="000099"/>
                </a:solidFill>
                <a:latin typeface="Calibri"/>
              </a:rPr>
              <a:t>ère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 guerre mondial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avec ses milliers de mutilés crée le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premier barème d’invalidité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(révisé seulement en 1993 avec le guide barème) et les appareillag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L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régime de Vichy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rapproche « l’enfance déficience » et « l’enfance en danger moral » dans sa nouvelle politique de la jeunesse qui donnera les bases, après guerre, d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’éducation spécialisé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’ordonnance de février 45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sur la protection judiciaire de la jeunesse :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« l’éducation »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comme un enjeu social et républicai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’ordonnance du 19 octobre 45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généralisant la sécurité sociale : l’Etat républicain comme garant d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a solidarité entre les citoye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Arrêté 46 pour autoriser les établissements de cure, de soins, de préven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75880" y="6480"/>
            <a:ext cx="793116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Des changements sur plusieurs plans 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8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76E5B60-F83A-42E8-A8D4-53FADDFDAE4D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ZoneTexte 4"/>
          <p:cNvSpPr/>
          <p:nvPr/>
        </p:nvSpPr>
        <p:spPr>
          <a:xfrm>
            <a:off x="179280" y="1028880"/>
            <a:ext cx="2376720" cy="119124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Evolution des concepts fondamen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ZoneTexte 5"/>
          <p:cNvSpPr/>
          <p:nvPr/>
        </p:nvSpPr>
        <p:spPr>
          <a:xfrm>
            <a:off x="1908000" y="2948040"/>
            <a:ext cx="5867640" cy="8254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Des politiques sociales, sanitaires et médico-sociales qui ont des orientations commu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ZoneTexte 6"/>
          <p:cNvSpPr/>
          <p:nvPr/>
        </p:nvSpPr>
        <p:spPr>
          <a:xfrm>
            <a:off x="395280" y="4576680"/>
            <a:ext cx="4897440" cy="45972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Une transformation médico-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ZoneTexte 7"/>
          <p:cNvSpPr/>
          <p:nvPr/>
        </p:nvSpPr>
        <p:spPr>
          <a:xfrm>
            <a:off x="1692360" y="5734080"/>
            <a:ext cx="5759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Des pratiques professionnelles en mu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33" name="Connecteur en arc 12"/>
          <p:cNvCxnSpPr/>
          <p:nvPr/>
        </p:nvCxnSpPr>
        <p:spPr>
          <a:xfrm>
            <a:off x="2555640" y="1607760"/>
            <a:ext cx="150228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34" name="Connecteur en angle 14"/>
          <p:cNvCxnSpPr/>
          <p:nvPr/>
        </p:nvCxnSpPr>
        <p:spPr>
          <a:xfrm flipV="1" rot="10800000">
            <a:off x="5435640" y="4575600"/>
            <a:ext cx="1440360" cy="413640"/>
          </a:xfrm>
          <a:prstGeom prst="bentConnector3">
            <a:avLst>
              <a:gd name="adj1" fmla="val 50000"/>
            </a:avLst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35" name="Connecteur droit 19"/>
          <p:cNvSpPr/>
          <p:nvPr/>
        </p:nvSpPr>
        <p:spPr>
          <a:xfrm>
            <a:off x="6875640" y="4057560"/>
            <a:ext cx="0" cy="51912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Flèche courbée vers la droite 20"/>
          <p:cNvSpPr/>
          <p:nvPr/>
        </p:nvSpPr>
        <p:spPr>
          <a:xfrm>
            <a:off x="1042920" y="5192640"/>
            <a:ext cx="504720" cy="1155600"/>
          </a:xfrm>
          <a:custGeom>
            <a:avLst/>
            <a:gdLst>
              <a:gd name="textAreaLeft" fmla="*/ 67320 w 504720"/>
              <a:gd name="textAreaRight" fmla="*/ 437400 w 504720"/>
              <a:gd name="textAreaTop" fmla="*/ 247320 h 1155600"/>
              <a:gd name="textAreaBottom" fmla="*/ 8683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7" stAng="-5400000" swAng="-5400000"/>
                <a:lnTo>
                  <a:pt x="0" y="11606"/>
                </a:lnTo>
                <a:arcTo wR="21600" hR="9247" stAng="10800000" swAng="-3534286"/>
                <a:lnTo>
                  <a:pt x="16200" y="21306"/>
                </a:lnTo>
                <a:lnTo>
                  <a:pt x="21600" y="19674"/>
                </a:lnTo>
                <a:lnTo>
                  <a:pt x="16200" y="17453"/>
                </a:lnTo>
                <a:lnTo>
                  <a:pt x="16200" y="18200"/>
                </a:lnTo>
                <a:arcTo wR="21600" hR="9247" stAng="7265714" swAng="3345208"/>
                <a:lnTo>
                  <a:pt x="176" y="10427"/>
                </a:lnTo>
                <a:arcTo wR="21600" hR="9247" stAng="-10610922" swAng="5210922"/>
                <a:close/>
              </a:path>
              <a:path fill="darkenLess" w="21600" h="21600">
                <a:moveTo>
                  <a:pt x="21600" y="0"/>
                </a:moveTo>
                <a:arcTo wR="21600" hR="9247" stAng="-5400000" swAng="-5400000"/>
                <a:lnTo>
                  <a:pt x="0" y="9247"/>
                </a:lnTo>
                <a:arcTo wR="21600" hR="9247" stAng="10800000" swAng="-189078"/>
                <a:lnTo>
                  <a:pt x="176" y="10427"/>
                </a:lnTo>
                <a:arcTo wR="21600" hR="9247" stAng="-10610922" swAng="5210922"/>
                <a:close/>
              </a:path>
            </a:pathLst>
          </a:custGeom>
          <a:solidFill>
            <a:srgbClr val="fe8637"/>
          </a:solidFill>
          <a:ln w="324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FF2C1D-44B9-4AB7-BAE0-8557A571F397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ZoneTexte 3"/>
          <p:cNvSpPr/>
          <p:nvPr/>
        </p:nvSpPr>
        <p:spPr>
          <a:xfrm>
            <a:off x="179280" y="357120"/>
            <a:ext cx="8496360" cy="1008000"/>
          </a:xfrm>
          <a:prstGeom prst="rect">
            <a:avLst/>
          </a:prstGeom>
          <a:solidFill>
            <a:srgbClr val="fdf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</a:t>
            </a:r>
            <a:r>
              <a:rPr b="1" lang="fr-FR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99"/>
                </a:solidFill>
                <a:latin typeface="Calibri"/>
              </a:rPr>
              <a:t>EVOLUTION DES CONCEPTS FONDATEURS / MODÈ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826920" y="1700280"/>
            <a:ext cx="7815600" cy="32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75c01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Du </a:t>
            </a: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modèle biomédical </a:t>
            </a:r>
            <a:r>
              <a:rPr b="0" lang="fr-FR" sz="2400" spc="-1" strike="noStrike">
                <a:solidFill>
                  <a:srgbClr val="e75c01"/>
                </a:solidFill>
                <a:latin typeface="Calibri"/>
              </a:rPr>
              <a:t>(CIH, 1980)</a:t>
            </a: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….. à un modèle bio-psycho-social </a:t>
            </a:r>
            <a:r>
              <a:rPr b="0" lang="fr-FR" sz="2400" spc="-1" strike="noStrike">
                <a:solidFill>
                  <a:srgbClr val="e75c01"/>
                </a:solidFill>
                <a:latin typeface="Calibri"/>
              </a:rPr>
              <a:t>(CIF, 2001)</a:t>
            </a:r>
            <a:r>
              <a:rPr b="0" lang="fr-FR" sz="2400" spc="-1" strike="noStrike">
                <a:solidFill>
                  <a:srgbClr val="ff9933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75c01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Des lieux spécifiquement adaptés aux besoins des situations de handicap …. à </a:t>
            </a: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l’inclusion sociétale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e75c01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400" spc="-1" strike="noStrike">
                <a:solidFill>
                  <a:srgbClr val="e75c01"/>
                </a:solidFill>
                <a:latin typeface="Calibri"/>
              </a:rPr>
              <a:t>De la prise en compte de </a:t>
            </a: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l’avis de la personne</a:t>
            </a:r>
            <a:r>
              <a:rPr b="0" lang="fr-FR" sz="2400" spc="-1" strike="noStrike">
                <a:solidFill>
                  <a:srgbClr val="e75c01"/>
                </a:solidFill>
                <a:latin typeface="Calibri"/>
              </a:rPr>
              <a:t> …. à l’expertise expérientielle, </a:t>
            </a: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l’autodétermination et le pouvoir d’agir</a:t>
            </a:r>
            <a:r>
              <a:rPr b="0" lang="fr-FR" sz="2400" spc="-1" strike="noStrike">
                <a:solidFill>
                  <a:srgbClr val="e75c01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5CF7766-46FF-4508-A36B-A02CDD10D307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1" name="Image 5" descr=""/>
          <p:cNvPicPr/>
          <p:nvPr/>
        </p:nvPicPr>
        <p:blipFill>
          <a:blip r:embed="rId1"/>
          <a:stretch/>
        </p:blipFill>
        <p:spPr>
          <a:xfrm>
            <a:off x="971640" y="347760"/>
            <a:ext cx="7056360" cy="1257120"/>
          </a:xfrm>
          <a:prstGeom prst="rect">
            <a:avLst/>
          </a:prstGeom>
          <a:ln w="0">
            <a:noFill/>
          </a:ln>
        </p:spPr>
      </p:pic>
      <p:sp>
        <p:nvSpPr>
          <p:cNvPr id="442" name="Flèche droite rayée 6"/>
          <p:cNvSpPr/>
          <p:nvPr/>
        </p:nvSpPr>
        <p:spPr>
          <a:xfrm rot="5400000">
            <a:off x="5008320" y="1628640"/>
            <a:ext cx="662040" cy="576000"/>
          </a:xfrm>
          <a:custGeom>
            <a:avLst/>
            <a:gdLst/>
            <a:ahLst/>
            <a:rect l="l" t="t" r="r" b="b"/>
            <a:pathLst>
              <a:path w="661987" h="576263">
                <a:moveTo>
                  <a:pt x="0" y="144066"/>
                </a:moveTo>
                <a:lnTo>
                  <a:pt x="18008" y="144066"/>
                </a:lnTo>
                <a:lnTo>
                  <a:pt x="18008" y="432197"/>
                </a:lnTo>
                <a:lnTo>
                  <a:pt x="0" y="432197"/>
                </a:lnTo>
                <a:lnTo>
                  <a:pt x="0" y="144066"/>
                </a:lnTo>
                <a:close/>
                <a:moveTo>
                  <a:pt x="36016" y="144066"/>
                </a:moveTo>
                <a:lnTo>
                  <a:pt x="72033" y="144066"/>
                </a:lnTo>
                <a:lnTo>
                  <a:pt x="72033" y="432197"/>
                </a:lnTo>
                <a:lnTo>
                  <a:pt x="36016" y="432197"/>
                </a:lnTo>
                <a:lnTo>
                  <a:pt x="36016" y="144066"/>
                </a:lnTo>
                <a:close/>
                <a:moveTo>
                  <a:pt x="90041" y="144066"/>
                </a:moveTo>
                <a:lnTo>
                  <a:pt x="373856" y="144066"/>
                </a:lnTo>
                <a:lnTo>
                  <a:pt x="373856" y="0"/>
                </a:lnTo>
                <a:lnTo>
                  <a:pt x="661987" y="288132"/>
                </a:lnTo>
                <a:lnTo>
                  <a:pt x="373856" y="576263"/>
                </a:lnTo>
                <a:lnTo>
                  <a:pt x="373856" y="432197"/>
                </a:lnTo>
                <a:lnTo>
                  <a:pt x="90041" y="432197"/>
                </a:lnTo>
                <a:lnTo>
                  <a:pt x="90041" y="144066"/>
                </a:lnTo>
                <a:close/>
              </a:path>
            </a:pathLst>
          </a:custGeom>
          <a:solidFill>
            <a:srgbClr val="0070c0"/>
          </a:solidFill>
          <a:ln w="25560">
            <a:solidFill>
              <a:srgbClr val="bb6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ZoneTexte 8"/>
          <p:cNvSpPr/>
          <p:nvPr/>
        </p:nvSpPr>
        <p:spPr>
          <a:xfrm>
            <a:off x="-36360" y="3244680"/>
            <a:ext cx="2211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Classification Internationale du Fonctionnement, du handica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et de la santé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OMS, 200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44" name="Groupe 9"/>
          <p:cNvGrpSpPr/>
          <p:nvPr/>
        </p:nvGrpSpPr>
        <p:grpSpPr>
          <a:xfrm>
            <a:off x="1979640" y="2417760"/>
            <a:ext cx="6143760" cy="4562640"/>
            <a:chOff x="1979640" y="2417760"/>
            <a:chExt cx="6143760" cy="4562640"/>
          </a:xfrm>
        </p:grpSpPr>
        <p:pic>
          <p:nvPicPr>
            <p:cNvPr id="445" name="Image 7" descr=""/>
            <p:cNvPicPr/>
            <p:nvPr/>
          </p:nvPicPr>
          <p:blipFill>
            <a:blip r:embed="rId2"/>
            <a:stretch/>
          </p:blipFill>
          <p:spPr>
            <a:xfrm>
              <a:off x="1979640" y="2417760"/>
              <a:ext cx="6143760" cy="437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Ellipse 1"/>
            <p:cNvSpPr/>
            <p:nvPr/>
          </p:nvSpPr>
          <p:spPr>
            <a:xfrm>
              <a:off x="3851280" y="4100400"/>
              <a:ext cx="1081080" cy="503280"/>
            </a:xfrm>
            <a:prstGeom prst="ellipse">
              <a:avLst/>
            </a:prstGeom>
            <a:noFill/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Ellipse 2"/>
            <p:cNvSpPr/>
            <p:nvPr/>
          </p:nvSpPr>
          <p:spPr>
            <a:xfrm>
              <a:off x="3058920" y="5732640"/>
              <a:ext cx="2279520" cy="1247760"/>
            </a:xfrm>
            <a:prstGeom prst="ellipse">
              <a:avLst/>
            </a:prstGeom>
            <a:noFill/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Ellipse 10"/>
            <p:cNvSpPr/>
            <p:nvPr/>
          </p:nvSpPr>
          <p:spPr>
            <a:xfrm>
              <a:off x="5627880" y="3981600"/>
              <a:ext cx="1463760" cy="693720"/>
            </a:xfrm>
            <a:prstGeom prst="ellipse">
              <a:avLst/>
            </a:prstGeom>
            <a:noFill/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Ellipse 11"/>
            <p:cNvSpPr/>
            <p:nvPr/>
          </p:nvSpPr>
          <p:spPr>
            <a:xfrm>
              <a:off x="5573880" y="5732640"/>
              <a:ext cx="2093760" cy="1125360"/>
            </a:xfrm>
            <a:prstGeom prst="ellipse">
              <a:avLst/>
            </a:prstGeom>
            <a:noFill/>
            <a:ln w="25560">
              <a:solidFill>
                <a:srgbClr val="bb61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50" name="ZoneTexte 3"/>
          <p:cNvSpPr/>
          <p:nvPr/>
        </p:nvSpPr>
        <p:spPr>
          <a:xfrm>
            <a:off x="6473880" y="347760"/>
            <a:ext cx="19144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(OMS, 1980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C497EA-25A3-4666-B64F-B63964D6B794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2" name="Image 4" descr=""/>
          <p:cNvPicPr/>
          <p:nvPr/>
        </p:nvPicPr>
        <p:blipFill>
          <a:blip r:embed="rId1"/>
          <a:stretch/>
        </p:blipFill>
        <p:spPr>
          <a:xfrm>
            <a:off x="1619280" y="252360"/>
            <a:ext cx="5102280" cy="63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3B2313-B1C4-4D06-8D6D-6FC2E374C7C7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ZoneTexte 4"/>
          <p:cNvSpPr/>
          <p:nvPr/>
        </p:nvSpPr>
        <p:spPr>
          <a:xfrm>
            <a:off x="755640" y="68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e75c01"/>
                </a:solidFill>
                <a:latin typeface="Verdana"/>
              </a:rPr>
              <a:t>L’expertise « expérientielle 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200" spc="-1" strike="noStrike">
                <a:solidFill>
                  <a:srgbClr val="e75c01"/>
                </a:solidFill>
                <a:latin typeface="Verdana"/>
              </a:rPr>
              <a:t>ou « d’usage 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ZoneTexte 5"/>
          <p:cNvSpPr/>
          <p:nvPr/>
        </p:nvSpPr>
        <p:spPr>
          <a:xfrm>
            <a:off x="585720" y="1341360"/>
            <a:ext cx="808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L’expertise des personnes est légitime en raison d’une part de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leur vécu des limitation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fonctionnelles et des restrictions de participation et d’autre part,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en tant qu’usager  de prestation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sanitaires, sociales et médico-socia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ZoneTexte 7"/>
          <p:cNvSpPr/>
          <p:nvPr/>
        </p:nvSpPr>
        <p:spPr>
          <a:xfrm>
            <a:off x="781200" y="3116160"/>
            <a:ext cx="7103880" cy="253368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Reconnaissance de l’expertise expérientiell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ans la co-construction des projets personnalisés de soins et d’accompagnement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Partir de ce qui fait sens pour la personne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Associer les personnes en situation de handicap dans l’évaluation de la qualité des services rendus par les ESMS, dans les diagnostics territoriaux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CBEEF56-6DF2-4633-AFC3-88588027D88D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ZoneTexte 4"/>
          <p:cNvSpPr/>
          <p:nvPr/>
        </p:nvSpPr>
        <p:spPr>
          <a:xfrm>
            <a:off x="274680" y="68400"/>
            <a:ext cx="83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e75c01"/>
                </a:solidFill>
                <a:latin typeface="Calibri"/>
              </a:rPr>
              <a:t>L’auto-détermination et le pouvoir d’agi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oneTexte 5"/>
          <p:cNvSpPr/>
          <p:nvPr/>
        </p:nvSpPr>
        <p:spPr>
          <a:xfrm>
            <a:off x="514440" y="920880"/>
            <a:ext cx="808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Le principe d'autodétermination est caractérisé par la capacité d'une personne à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faire des choix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et à agir sur sa vie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pour elle-même et par elle-mêm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ZoneTexte 6"/>
          <p:cNvSpPr/>
          <p:nvPr/>
        </p:nvSpPr>
        <p:spPr>
          <a:xfrm>
            <a:off x="684360" y="2205000"/>
            <a:ext cx="768024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évelopper cette capacité à faire des choix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participe à développer le pouvoir d’agir de la personne, c’est-à-dire la possibilité d’agir sur son environnement</a:t>
            </a: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100" spc="-1" strike="noStrike">
                <a:solidFill>
                  <a:srgbClr val="000099"/>
                </a:solidFill>
                <a:latin typeface="Verdana"/>
              </a:rPr>
              <a:t>ex : l’accès à des biens ou services qu’elles souhaitent / bien être ;  participer à la définition de règles collectives de l’espace ou du groupe social dans lequel elle évolue - citoyenneté, etc.)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ZoneTexte 7"/>
          <p:cNvSpPr/>
          <p:nvPr/>
        </p:nvSpPr>
        <p:spPr>
          <a:xfrm>
            <a:off x="1271520" y="4005360"/>
            <a:ext cx="6335640" cy="2228400"/>
          </a:xfrm>
          <a:prstGeom prst="rect">
            <a:avLst/>
          </a:prstGeom>
          <a:solidFill>
            <a:srgbClr val="ffe7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Wingdings"/>
                <a:ea typeface="Wingdings"/>
              </a:rPr>
              <a:t></a:t>
            </a:r>
            <a:r>
              <a:rPr b="1" lang="fr-FR" sz="1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C’est vraiment un changement de perspectiv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envisager l’autonomie de la personne sous l’angle de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sa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capacité à définir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ce qui est bon pour elle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, en tenant compte des facteurs environnementaux (qui l’entravent ou la soutiennent) et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la rendre actric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e son projet, de ses activités, de la mise en œuvre de ses choix. Participer à des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fonctions représentatives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(CVS)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75880" y="6480"/>
            <a:ext cx="7931160" cy="75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6600"/>
                </a:solidFill>
                <a:latin typeface="Calibri"/>
              </a:rPr>
              <a:t>Des changements sur plusieurs plans 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06E99CF-F4B1-4CE8-9D13-A346ACE02295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ZoneTexte 4"/>
          <p:cNvSpPr/>
          <p:nvPr/>
        </p:nvSpPr>
        <p:spPr>
          <a:xfrm>
            <a:off x="179280" y="1028880"/>
            <a:ext cx="2376720" cy="1191240"/>
          </a:xfrm>
          <a:prstGeom prst="rect">
            <a:avLst/>
          </a:prstGeom>
          <a:solidFill>
            <a:srgbClr val="fff3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Evolution des concepts fondamentaux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ZoneTexte 5"/>
          <p:cNvSpPr/>
          <p:nvPr/>
        </p:nvSpPr>
        <p:spPr>
          <a:xfrm>
            <a:off x="1908000" y="2948040"/>
            <a:ext cx="5867640" cy="825480"/>
          </a:xfrm>
          <a:prstGeom prst="rect">
            <a:avLst/>
          </a:prstGeom>
          <a:solidFill>
            <a:srgbClr val="f8cf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Des politiques sociales, sanitaires et médico-sociales qui ont des orientations commu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ZoneTexte 6"/>
          <p:cNvSpPr/>
          <p:nvPr/>
        </p:nvSpPr>
        <p:spPr>
          <a:xfrm>
            <a:off x="395280" y="4576680"/>
            <a:ext cx="4897440" cy="45972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Une transformation médico-socia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ZoneTexte 7"/>
          <p:cNvSpPr/>
          <p:nvPr/>
        </p:nvSpPr>
        <p:spPr>
          <a:xfrm>
            <a:off x="1692360" y="5734080"/>
            <a:ext cx="575928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alibri"/>
              </a:rPr>
              <a:t>Des pratiques professionnelles en mu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468" name="Connecteur en arc 12"/>
          <p:cNvCxnSpPr/>
          <p:nvPr/>
        </p:nvCxnSpPr>
        <p:spPr>
          <a:xfrm>
            <a:off x="2555640" y="1607760"/>
            <a:ext cx="1502280" cy="12200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469" name="Connecteur en angle 14"/>
          <p:cNvCxnSpPr/>
          <p:nvPr/>
        </p:nvCxnSpPr>
        <p:spPr>
          <a:xfrm flipV="1" rot="10800000">
            <a:off x="5435640" y="4575600"/>
            <a:ext cx="1440360" cy="413640"/>
          </a:xfrm>
          <a:prstGeom prst="bentConnector3">
            <a:avLst>
              <a:gd name="adj1" fmla="val 50000"/>
            </a:avLst>
          </a:prstGeom>
          <a:ln w="38160">
            <a:solidFill>
              <a:srgbClr val="ff6903"/>
            </a:solidFill>
            <a:miter/>
            <a:tailEnd len="med" type="arrow" w="med"/>
          </a:ln>
        </p:spPr>
      </p:cxnSp>
      <p:sp>
        <p:nvSpPr>
          <p:cNvPr id="470" name="Connecteur droit 19"/>
          <p:cNvSpPr/>
          <p:nvPr/>
        </p:nvSpPr>
        <p:spPr>
          <a:xfrm>
            <a:off x="6875640" y="4057560"/>
            <a:ext cx="0" cy="519120"/>
          </a:xfrm>
          <a:prstGeom prst="line">
            <a:avLst/>
          </a:prstGeom>
          <a:ln w="381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Flèche courbée vers la droite 20"/>
          <p:cNvSpPr/>
          <p:nvPr/>
        </p:nvSpPr>
        <p:spPr>
          <a:xfrm>
            <a:off x="1042920" y="5192640"/>
            <a:ext cx="504720" cy="1155600"/>
          </a:xfrm>
          <a:custGeom>
            <a:avLst/>
            <a:gdLst>
              <a:gd name="textAreaLeft" fmla="*/ 67320 w 504720"/>
              <a:gd name="textAreaRight" fmla="*/ 437400 w 504720"/>
              <a:gd name="textAreaTop" fmla="*/ 247320 h 1155600"/>
              <a:gd name="textAreaBottom" fmla="*/ 868320 h 1155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47" stAng="-5400000" swAng="-5400000"/>
                <a:lnTo>
                  <a:pt x="0" y="11606"/>
                </a:lnTo>
                <a:arcTo wR="21600" hR="9247" stAng="10800000" swAng="-3534286"/>
                <a:lnTo>
                  <a:pt x="16200" y="21306"/>
                </a:lnTo>
                <a:lnTo>
                  <a:pt x="21600" y="19674"/>
                </a:lnTo>
                <a:lnTo>
                  <a:pt x="16200" y="17453"/>
                </a:lnTo>
                <a:lnTo>
                  <a:pt x="16200" y="18200"/>
                </a:lnTo>
                <a:arcTo wR="21600" hR="9247" stAng="7265714" swAng="3345208"/>
                <a:lnTo>
                  <a:pt x="176" y="10427"/>
                </a:lnTo>
                <a:arcTo wR="21600" hR="9247" stAng="-10610922" swAng="5210922"/>
                <a:close/>
              </a:path>
              <a:path fill="darkenLess" w="21600" h="21600">
                <a:moveTo>
                  <a:pt x="21600" y="0"/>
                </a:moveTo>
                <a:arcTo wR="21600" hR="9247" stAng="-5400000" swAng="-5400000"/>
                <a:lnTo>
                  <a:pt x="0" y="9247"/>
                </a:lnTo>
                <a:arcTo wR="21600" hR="9247" stAng="10800000" swAng="-189078"/>
                <a:lnTo>
                  <a:pt x="176" y="10427"/>
                </a:lnTo>
                <a:arcTo wR="21600" hR="9247" stAng="-10610922" swAng="5210922"/>
                <a:close/>
              </a:path>
            </a:pathLst>
          </a:custGeom>
          <a:solidFill>
            <a:srgbClr val="fe8637"/>
          </a:solidFill>
          <a:ln w="324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496360" cy="768600"/>
          </a:xfrm>
          <a:prstGeom prst="rect">
            <a:avLst/>
          </a:prstGeom>
          <a:solidFill>
            <a:srgbClr val="e3eaf7"/>
          </a:solidFill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Wingdings"/>
                <a:ea typeface="Wingdings"/>
              </a:rPr>
              <a:t></a:t>
            </a:r>
            <a:r>
              <a:rPr b="1" lang="fr-FR" sz="3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99"/>
                </a:solidFill>
                <a:latin typeface="Calibri"/>
              </a:rPr>
              <a:t>UNE TRANSFORMATION DE L’OFFRE MÉDICO-SOCIAL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3075A6-9BED-4419-9DA4-8234193B75ED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Rectangle 6"/>
          <p:cNvSpPr/>
          <p:nvPr/>
        </p:nvSpPr>
        <p:spPr>
          <a:xfrm>
            <a:off x="684360" y="1268280"/>
            <a:ext cx="76197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Des établissements et services médico-sociaux ouverts sur leur environnement </a:t>
            </a:r>
            <a:r>
              <a:rPr b="0" i="1" lang="fr-FR" sz="2200" spc="-1" strike="noStrike">
                <a:solidFill>
                  <a:srgbClr val="000099"/>
                </a:solidFill>
                <a:latin typeface="Calibri"/>
              </a:rPr>
              <a:t>(« l’inclusion = ce n’est pas fermer les établissements mais les ouvrir »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200" spc="-1" strike="noStrike">
                <a:solidFill>
                  <a:srgbClr val="e75c01"/>
                </a:solidFill>
                <a:latin typeface="Calibri"/>
              </a:rPr>
              <a:t>Des ESMS </a:t>
            </a:r>
            <a:r>
              <a:rPr b="1" lang="fr-FR" sz="2200" spc="-1" strike="noStrike" u="sng">
                <a:solidFill>
                  <a:srgbClr val="e75c01"/>
                </a:solidFill>
                <a:uFillTx/>
                <a:latin typeface="Calibri"/>
              </a:rPr>
              <a:t>qui participent au maillage territorial des ressources </a:t>
            </a:r>
            <a:r>
              <a:rPr b="1" lang="fr-FR" sz="2200" spc="-1" strike="noStrike">
                <a:solidFill>
                  <a:srgbClr val="e75c01"/>
                </a:solidFill>
                <a:latin typeface="Calibri"/>
              </a:rPr>
              <a:t>sanitaires, sociales, médico-sociales et de droit commun.  La fonction « d’appui ressource » au territoi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Fonctionnement en dispositif, PCPE, plate-forme de servic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La participation à des projets inclusif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La fonction de coordination (usuelle ou renforcé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La réforme de la tarification (Serafin-PH et des EHPAD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Font typeface="Calibri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</a:rPr>
              <a:t>La révolution numérique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 (SI, supports pédagogiques, outils de compensation, évolution des relations au sein de l’équipe professionnelle et avec les famill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5676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MAILLAGE TERRITORIAL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468000" y="1267920"/>
            <a:ext cx="7713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Ne pas créer des dispositifs spécifiques ou partenariats entre structures pour à des situations </a:t>
            </a:r>
            <a:r>
              <a:rPr b="0" i="1" lang="fr-FR" sz="2000" spc="-1" strike="noStrike">
                <a:solidFill>
                  <a:srgbClr val="000099"/>
                </a:solidFill>
                <a:latin typeface="Calibri"/>
              </a:rPr>
              <a:t>« qui n’entrent pas dans les cases » </a:t>
            </a:r>
            <a:r>
              <a:rPr b="0" i="1" lang="fr-F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i="1" lang="fr-FR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Il s’agit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éfinir de façon concertée les conditions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qui permettront que chaque acteur,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pour toute situation de vie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(aux besoins et attentes singuliers) et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sur un territoire donnée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, puissent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potentiellement intervenir en complémentarité des autres, sur </a:t>
            </a:r>
            <a:r>
              <a:rPr b="1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son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 champ d’expertis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Il s’agit moins que jamais pour chaque structure de prétendre répondre à TOUS les besoins des personnes qu’elle soigne ou accompagne </a:t>
            </a:r>
            <a:r>
              <a:rPr b="0" lang="fr-F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l’intervention respective de chaque acteur est </a:t>
            </a:r>
            <a:r>
              <a:rPr b="1" lang="fr-FR" sz="2000" spc="-1" strike="noStrike">
                <a:solidFill>
                  <a:srgbClr val="ff9933"/>
                </a:solidFill>
                <a:latin typeface="Calibri"/>
              </a:rPr>
              <a:t>« à la fois indispensable ET non suffisante ».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Chaque acteur peut constituer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une porte d’entrée du parcours de soins et d’accompagneme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Principes d’intervention: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Co-responsabilité territorial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ET </a:t>
            </a: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Subsidiarité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7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930752-CA89-4988-8FFE-C4806FD768D2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10920" y="372600"/>
            <a:ext cx="74674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e75c01"/>
                </a:solidFill>
                <a:latin typeface="Calibri"/>
              </a:rPr>
              <a:t>UNE FONCTION D’APPUI-RESSOURCE AU TERRITOIRE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888C8F0-2D89-4D9B-885E-BF6E732CEBE2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ZoneTexte 4"/>
          <p:cNvSpPr/>
          <p:nvPr/>
        </p:nvSpPr>
        <p:spPr>
          <a:xfrm>
            <a:off x="611280" y="1411200"/>
            <a:ext cx="741672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Notion introduite dans la nomenclature des « prestations » de SERAFIN – PH.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Egalement reprise dans la circulaire de la transformation de l’offre médico-sociale du 2 mai 2017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Faire profiter de leur expertis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à d’autres professionnels (non spécialisés ou du droit commun)  ou  à des aidants familiaux ou encore à des PSH n’appartenant pas à leur file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SzPct val="70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Intérêt :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apporter une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réponse de proximité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,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transférer des compétences ou des outils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,  donner un conseil ou apporter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un avis distancié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ZoneTexte 2"/>
          <p:cNvSpPr/>
          <p:nvPr/>
        </p:nvSpPr>
        <p:spPr>
          <a:xfrm>
            <a:off x="468360" y="4797360"/>
            <a:ext cx="7559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e75c01"/>
                </a:solidFill>
                <a:latin typeface="Wingdings"/>
                <a:ea typeface="Wingdings"/>
              </a:rPr>
              <a:t></a:t>
            </a:r>
            <a:r>
              <a:rPr b="0" lang="fr-FR" sz="1800" spc="-1" strike="noStrike">
                <a:solidFill>
                  <a:srgbClr val="e75c01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e75c01"/>
                </a:solidFill>
                <a:latin typeface="Verdana"/>
              </a:rPr>
              <a:t>Un levier essentiel pour le virage inclusif : </a:t>
            </a:r>
            <a:r>
              <a:rPr b="0" lang="fr-FR" sz="1800" spc="-1" strike="noStrike">
                <a:solidFill>
                  <a:srgbClr val="e75c01"/>
                </a:solidFill>
                <a:latin typeface="Verdana"/>
              </a:rPr>
              <a:t>« sanctuariser » l’expertise médico-sociale, acculturer les équipes à d’autres interlocuteurs, à des intervention en milieu ordinaire, valoriser l’expertise des professionnels (motivation pour une aide au changement)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44320" y="259920"/>
            <a:ext cx="80038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e75c01"/>
                </a:solidFill>
                <a:latin typeface="Calibri"/>
              </a:rPr>
              <a:t>L’INVENTION DU SECTEUR MÉDICO-SOCIAL ENTRE 1956 ET 1975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9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D25224-7051-4ACF-B1D5-FE97C8F6DC73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Espace réservé du contenu 2"/>
          <p:cNvSpPr/>
          <p:nvPr/>
        </p:nvSpPr>
        <p:spPr>
          <a:xfrm>
            <a:off x="555480" y="1268280"/>
            <a:ext cx="799308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e décret de 1956 remplace les fameuses Annexes XXIV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qui va structurer le « secteur médico-social » et proposer une classification des enfants mentalement « inadaptés » en 5 catégories : </a:t>
            </a:r>
            <a:r>
              <a:rPr b="0" i="1" lang="fr-FR" sz="2000" spc="-1" strike="noStrike">
                <a:solidFill>
                  <a:srgbClr val="000099"/>
                </a:solidFill>
                <a:latin typeface="Calibri"/>
              </a:rPr>
              <a:t>les enfants présentant une psychose ou névrose grave ; les enfants avec déficience intellectuelle ; les enfants avec troubles du caractère et du comportement ; les enfants inadaptés scolaires ; les enfants dont l’inadaptation tient essentiellement à la déficience du milieu famili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Création par les parents dans les années 60 des grandes Fédérations qui vont devenir des associations gestionnai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A la fin des années 60,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le politique fait l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constat négatif de l’action de l’hôpital envers les personnes âgées, les enfants et les adultes handicapés </a:t>
            </a:r>
            <a:r>
              <a:rPr b="1" lang="fr-F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 Ordonnances 70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le gouvernement retire à « la Santé » et à l’hôpital  la compétence sur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ce qui deviendra « le médico-social 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e75c01"/>
                </a:solidFill>
                <a:latin typeface="Calibri"/>
              </a:rPr>
              <a:t>EXEMPLES DE FONCTION D’APPUI-RESSOURCE AU TERRITOIRE (AH)</a:t>
            </a:r>
            <a:endParaRPr b="0" lang="en-US" sz="25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68360" y="1123560"/>
            <a:ext cx="7632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Appui d’un SESSAD TSA à un ESAT non spécifiqu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our l’accompagnement d’un jeune adulte autiste en ESAT « tous publics »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élégation du service public d’information/accueil de la MDPH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à association gérant plusieurs ESMS (dont un SAVS) disposant d’un traducteur permanent en LSF ou bénéficiant de supports en braill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isposer de financements supplémentaires pour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intervenir sur des adultes en attente d’admission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en MAS ou FAM (évaluation du caractère urgent, éviter la dégradation de la situation, soutien des aidants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Formations d’un SAVS « handicap psychique » </a:t>
            </a:r>
            <a:r>
              <a:rPr b="1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auprès de CHRS et de bailleurs sociaux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sur les spécificités des personnes présentant des troubles graves de santé mentale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Foyer de vie pour personnes avec déficience sensorielle délivrant un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formation au personnel d’une ludothèqu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our accueillir un public non voyant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4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90E82C1-A0EE-4301-B9AA-8216B0C17FEB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7640" y="274680"/>
            <a:ext cx="8567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DES ORIENTATIONS / TRANSFORMATIONS DE L’OFFRE SIMILAIRES </a:t>
            </a:r>
            <a:br>
              <a:rPr sz="2900"/>
            </a:b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POUR LE SECTEUR MÉDICO-SOCIAL « PERSONNES ÂGÉES »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6840" y="1599840"/>
            <a:ext cx="746748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Révolution générationnelle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: refus des « nouvelles générations » de lieux collectif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L’anticipation de la perte d’autonomi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4DDC56-2106-47A2-A921-F67EE88A61E5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ZoneTexte 4"/>
          <p:cNvSpPr/>
          <p:nvPr/>
        </p:nvSpPr>
        <p:spPr>
          <a:xfrm>
            <a:off x="1390680" y="2954160"/>
            <a:ext cx="70563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Le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  <a:ea typeface="MS PGothic"/>
              </a:rPr>
              <a:t>développement de l’offre de services à domicile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De </a:t>
            </a:r>
            <a:r>
              <a:rPr b="0" lang="fr-FR" sz="2200" spc="-1" strike="noStrike" u="sng">
                <a:solidFill>
                  <a:srgbClr val="000099"/>
                </a:solidFill>
                <a:uFillTx/>
                <a:latin typeface="Calibri"/>
                <a:ea typeface="MS PGothic"/>
              </a:rPr>
              <a:t>nouvelles formes de logement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en cours de déploiement : résidence-autonomie, habitat intergénérationnel,  Résidences Services, béguinages, appartements domotisé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e75c01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De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l’EHPAD aux pôles gérontologiques locaux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  <a:ea typeface="MS P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1770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457200" indent="0" algn="ctr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DES ORIENTATIONS SIMILAIRES </a:t>
            </a:r>
            <a:br>
              <a:rPr sz="2900"/>
            </a:b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POUR LE SECTEUR MÉDICO-SOCIAL « PERSONNES ÂGÉES »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68360" y="1386000"/>
            <a:ext cx="820728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668c4"/>
                </a:solidFill>
                <a:latin typeface="Calibri"/>
              </a:rPr>
              <a:t>De l’EHPAD… aux pôles ressources gérontologiques locau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1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B324D3-62EE-4A21-8BA8-14F3568BEE8F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ZoneTexte 4"/>
          <p:cNvSpPr/>
          <p:nvPr/>
        </p:nvSpPr>
        <p:spPr>
          <a:xfrm>
            <a:off x="179280" y="1916280"/>
            <a:ext cx="828036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85680" indent="-450720" algn="just">
              <a:lnSpc>
                <a:spcPct val="100000"/>
              </a:lnSpc>
              <a:spcBef>
                <a:spcPts val="601"/>
              </a:spcBef>
              <a:buClr>
                <a:srgbClr val="e75c01"/>
              </a:buClr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Une fonction de « centre ressources » 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expertise gérontologique, formations de professionnels à domicile, accès à la télémédecine, aux thérapies non médicamenteuses, aux animations adapté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5680" indent="-450720" algn="just">
              <a:lnSpc>
                <a:spcPct val="100000"/>
              </a:lnSpc>
              <a:spcBef>
                <a:spcPts val="601"/>
              </a:spcBef>
              <a:buClr>
                <a:srgbClr val="e75c01"/>
              </a:buClr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Une capacité de projection au domicile des personnes âgées 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interventions de professionnels de l’EHPAD au sein des domiciles des personnes âgées, sur les champs du soin, de l’autonomie et/ou de la participation social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985680" indent="-450720" algn="just">
              <a:lnSpc>
                <a:spcPct val="100000"/>
              </a:lnSpc>
              <a:spcBef>
                <a:spcPts val="601"/>
              </a:spcBef>
              <a:buClr>
                <a:srgbClr val="e75c01"/>
              </a:buClr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Une diversité d’offres pour répondre aux besoins des aidants et/ ou des personnes âgées à domicile 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résidences autonomie/résidences services seniors adossées alliant maintien dans un logement autonome et possibilité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d’avoir recours au plateau technique de l’EHPAD, accueil de jour, hébergement temporaire, accueil de nuit, accueil d’urgence, accès au PASA pour des personnes extérieures à établissement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000" y="452160"/>
            <a:ext cx="8280360" cy="134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alibri"/>
              </a:rPr>
              <a:t>LES CONDITIONS DE CETTE TRANSFORMATION DE L’ACCOMPAGNEMENT MEDICO-SOCIAL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0EFDD3-6254-4B7C-9D66-66D018C8AC4D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5" name="Image 1" descr=""/>
          <p:cNvPicPr/>
          <p:nvPr/>
        </p:nvPicPr>
        <p:blipFill>
          <a:blip r:embed="rId1"/>
          <a:stretch/>
        </p:blipFill>
        <p:spPr>
          <a:xfrm>
            <a:off x="1908000" y="1892160"/>
            <a:ext cx="540072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alibri"/>
              </a:rPr>
              <a:t>Les conditions de réussite de ces réform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468360" y="1411200"/>
            <a:ext cx="7920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Mobilisation des dispositifs de droit commun tout en conservant l’accès aux dispositifs spécialisé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lorsque c’est nécessaire (notion de graduation de l’offre par degré́ de spécialisation et d’expertise, autour d’un principe de subsidiarité́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éploiement de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dispositifs souples et modulaire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pour mieux répondre à la diversité́ des besoins et des attentes des personnes en situation de handicap et de leurs aidant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Prise en compte de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l’évolution dans le temp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es besoins et attentes des personnes (Parcours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9DAA2F-3CA6-4F14-8294-839B5D6DCA17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868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Calibri"/>
              </a:rPr>
              <a:t>Les conditions de réussite de ces réformes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360" y="1411200"/>
            <a:ext cx="79200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Complémentarité́ des réponses de tous les acteur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(notamment des secteurs sanitaire, social et médico-social) contribuant à la qualité́ du parcours de vie des personne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Amélioration des parcours de prévention et de soins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es personnes en situation de vulnérabilité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just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Réactivité dans l’organisation des réponses aux situations complexes et d’urgence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afin de prévenir ou gérer les ruptures de parcours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119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43A11A-E8B7-4AE6-9B42-A6D49057F8CB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75CF82-DC6C-4431-A77E-DCBD625130F2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ZoneTexte 2"/>
          <p:cNvSpPr/>
          <p:nvPr/>
        </p:nvSpPr>
        <p:spPr>
          <a:xfrm>
            <a:off x="1290600" y="1028880"/>
            <a:ext cx="688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3600" spc="-1" strike="noStrike">
                <a:solidFill>
                  <a:srgbClr val="ff9933"/>
                </a:solidFill>
                <a:latin typeface="Verdana"/>
              </a:rPr>
              <a:t>Merci de votre attention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4" name="Image 3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5800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99"/>
                </a:solidFill>
                <a:latin typeface="Calibri"/>
              </a:rPr>
              <a:t>LES LOIS DE 75 QUI VIENNENT STRUCTURER LE SECTEUR MEDICO-SOCIAL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95280" y="1413000"/>
            <a:ext cx="79200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e75c01"/>
                </a:solidFill>
                <a:latin typeface="Calibri"/>
              </a:rPr>
              <a:t>Deux lois du 30 juin 1975, différentes et complémentaires 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0583A3-CA9E-4BA7-8955-8976471429DD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ZoneTexte 2"/>
          <p:cNvSpPr/>
          <p:nvPr/>
        </p:nvSpPr>
        <p:spPr>
          <a:xfrm>
            <a:off x="395280" y="5386320"/>
            <a:ext cx="777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e75c01"/>
              </a:buClr>
              <a:buFont typeface="Wingdings" charset="2"/>
              <a:buChar char="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e75c01"/>
                </a:solidFill>
                <a:latin typeface="Calibri"/>
              </a:rPr>
              <a:t>La logique d’établissement sera remis en cause pendant les 20 années suivantes </a:t>
            </a:r>
            <a:r>
              <a:rPr b="0" lang="fr-FR" sz="2000" spc="-1" strike="noStrike">
                <a:solidFill>
                  <a:srgbClr val="e75c01"/>
                </a:solidFill>
                <a:latin typeface="Calibri"/>
              </a:rPr>
              <a:t>(revendication de vivre dans un milieu de vie ordinaire), et ce </a:t>
            </a:r>
            <a:r>
              <a:rPr b="0" lang="fr-FR" sz="2000" spc="-1" strike="noStrike" u="sng">
                <a:solidFill>
                  <a:srgbClr val="e75c01"/>
                </a:solidFill>
                <a:uFillTx/>
                <a:latin typeface="Calibri"/>
              </a:rPr>
              <a:t>quelles que soient les populations bénéficiaires</a:t>
            </a:r>
            <a:r>
              <a:rPr b="0" lang="fr-FR" sz="2000" spc="-1" strike="noStrike">
                <a:solidFill>
                  <a:srgbClr val="e75c01"/>
                </a:solidFill>
                <a:latin typeface="Calibri"/>
              </a:rPr>
              <a:t> (PA, PH, ASE, etc.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ZoneTexte 5"/>
          <p:cNvSpPr/>
          <p:nvPr/>
        </p:nvSpPr>
        <p:spPr>
          <a:xfrm>
            <a:off x="395280" y="1989000"/>
            <a:ext cx="777708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 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oi dite d’orientation :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donner </a:t>
            </a:r>
            <a:r>
              <a:rPr b="1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un statut aux personnes handicapées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et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principes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d’« accès aux droits des personnes à l’éducation, aux soins, aux ressources et à la participation sociale 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oi dite sur les institutions sociales et médico-sociales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définit l’organisation des ressources à mettre en place dans un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ogique « établissement »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ou encore de « pierre »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99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Cette 2</a:t>
            </a:r>
            <a:r>
              <a:rPr b="0" lang="fr-FR" sz="2000" spc="-1" strike="noStrike" baseline="30000">
                <a:solidFill>
                  <a:srgbClr val="000099"/>
                </a:solidFill>
                <a:latin typeface="Calibri"/>
              </a:rPr>
              <a:t>e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loi donne également un délai de dix années aux pouvoirs publics pour assurer </a:t>
            </a:r>
            <a:r>
              <a:rPr b="1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la transformation des hospices en maison de retrait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médicalisée ou n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115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99"/>
                </a:solidFill>
                <a:latin typeface="Calibri"/>
              </a:rPr>
              <a:t>DE 1975 À 2000 :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94920" y="1412640"/>
            <a:ext cx="7921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éfinition du handicap et résultat d’un processus biomédical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: La Classification Internationale du Handicap (OMS, 1980) et comme « faisant partie de la condition humaine » (Disabled People International)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a réforme des Annexes 24 (1989)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dans l’enfance handicapée (polyhandicap, handicaps sensoriels, moteurs, etc.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Notion de handicap rare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(portée par les associations dans les années 80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Premières recherches sur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e vieillissement des personnes handicapées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(années 90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Livre blanc du handicap psychique (2000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Place déterminante de l’environnement :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« personne en situation de handicap » (inscrite dans des environnements) </a:t>
            </a:r>
            <a:r>
              <a:rPr b="0" lang="fr-F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Vote de la CIF (2001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 algn="just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B9A57F-C1E0-4F47-BBAB-9BDC803B8262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6880" y="561960"/>
            <a:ext cx="806148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900" spc="-1" strike="noStrike">
                <a:solidFill>
                  <a:srgbClr val="000099"/>
                </a:solidFill>
                <a:latin typeface="Calibri"/>
              </a:rPr>
              <a:t>LOI DU 2 JANVIER 2002 RÉNOVANT L’ACTION SOCIALE ET MÉDICO-SOCIALE </a:t>
            </a:r>
            <a:r>
              <a:rPr b="0" lang="fr-FR" sz="2900" spc="-1" strike="noStrike">
                <a:solidFill>
                  <a:srgbClr val="000099"/>
                </a:solidFill>
                <a:latin typeface="Calibri"/>
              </a:rPr>
              <a:t>: </a:t>
            </a:r>
            <a:r>
              <a:rPr b="1" lang="fr-FR" sz="2900" spc="-1" strike="noStrike">
                <a:solidFill>
                  <a:srgbClr val="ff6600"/>
                </a:solidFill>
                <a:latin typeface="Calibri"/>
              </a:rPr>
              <a:t>« L’USAGER AU CENTRE DU DISPOSITIF »</a:t>
            </a:r>
            <a:r>
              <a:rPr b="0" lang="fr-FR" sz="2900" spc="-1" strike="noStrike">
                <a:solidFill>
                  <a:srgbClr val="ff6600"/>
                </a:solidFill>
                <a:latin typeface="Calibri"/>
              </a:rPr>
              <a:t>. 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9F810F1-AD88-4ABA-BE45-5A2BB974210A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Espace réservé du contenu 2"/>
          <p:cNvSpPr/>
          <p:nvPr/>
        </p:nvSpPr>
        <p:spPr>
          <a:xfrm>
            <a:off x="547560" y="1773360"/>
            <a:ext cx="7615440" cy="28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 u="sng">
                <a:solidFill>
                  <a:srgbClr val="000099"/>
                </a:solidFill>
                <a:uFillTx/>
                <a:latin typeface="Calibri"/>
              </a:rPr>
              <a:t>Au sein 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de la structure médico-sociale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Calibri"/>
              </a:rPr>
              <a:t>Individualisation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 de l’accompagnement (projet individuel, contrat de séjour)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buClr>
                <a:srgbClr val="fe8637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400" spc="-1" strike="noStrike">
                <a:solidFill>
                  <a:srgbClr val="ff9900"/>
                </a:solidFill>
                <a:latin typeface="Calibri"/>
              </a:rPr>
              <a:t>Prise en compte de son avis </a:t>
            </a:r>
            <a:r>
              <a:rPr b="0" lang="fr-FR" sz="2400" spc="-1" strike="noStrike">
                <a:solidFill>
                  <a:srgbClr val="000099"/>
                </a:solidFill>
                <a:latin typeface="Calibri"/>
              </a:rPr>
              <a:t>sur la qualité des prestations délivrées et leur adéquation avec leurs besoins (Enquête de satisfaction et Conseil à la Vie Social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30080" y="189000"/>
            <a:ext cx="7467840" cy="14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alibri"/>
              </a:rPr>
              <a:t>LA </a:t>
            </a:r>
            <a:r>
              <a:rPr b="1" lang="fr-FR" sz="3200" spc="-1" strike="noStrike">
                <a:solidFill>
                  <a:srgbClr val="000099"/>
                </a:solidFill>
                <a:latin typeface="Calibri"/>
              </a:rPr>
              <a:t>LOI DU 11 FÉVRIER 2005 </a:t>
            </a:r>
            <a:r>
              <a:rPr b="0" lang="fr-FR" sz="3200" spc="-1" strike="noStrike">
                <a:solidFill>
                  <a:srgbClr val="000099"/>
                </a:solidFill>
                <a:latin typeface="Calibri"/>
              </a:rPr>
              <a:t> « POUR L'ÉGALITÉ DES DROITS ET DES CHANCES, LA PARTICIPATION ET LA CITOYENNETÉ DES PERSONNES HANDICAPÉES »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D7A74A-78AA-4E6F-9869-36009F371EDD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Espace réservé du contenu 2"/>
          <p:cNvSpPr/>
          <p:nvPr/>
        </p:nvSpPr>
        <p:spPr>
          <a:xfrm>
            <a:off x="395280" y="1863720"/>
            <a:ext cx="761508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Une </a:t>
            </a: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éfinition du handicap qui propose </a:t>
            </a:r>
            <a:r>
              <a:rPr b="1" lang="fr-FR" sz="2000" spc="-1" strike="noStrike">
                <a:solidFill>
                  <a:srgbClr val="ff9900"/>
                </a:solidFill>
                <a:latin typeface="Calibri"/>
              </a:rPr>
              <a:t>une approche « multidimensionnelle » </a:t>
            </a:r>
            <a:r>
              <a:rPr b="0" lang="fr-FR" sz="1800" spc="-1" strike="noStrike">
                <a:solidFill>
                  <a:srgbClr val="000099"/>
                </a:solidFill>
                <a:latin typeface="Calibri"/>
              </a:rPr>
              <a:t>(« </a:t>
            </a:r>
            <a:r>
              <a:rPr b="0" i="1" lang="fr-FR" sz="1800" spc="-1" strike="noStrike">
                <a:solidFill>
                  <a:srgbClr val="000099"/>
                </a:solidFill>
                <a:latin typeface="Calibri"/>
              </a:rPr>
              <a:t>Constitue un handicap, au sens de la présente loi, toute limitation </a:t>
            </a:r>
            <a:r>
              <a:rPr b="0" i="1" lang="fr-FR" sz="1800" spc="-1" strike="noStrike" u="sng">
                <a:solidFill>
                  <a:srgbClr val="000099"/>
                </a:solidFill>
                <a:uFillTx/>
                <a:latin typeface="Calibri"/>
              </a:rPr>
              <a:t>d'activité ou restriction de participation</a:t>
            </a:r>
            <a:r>
              <a:rPr b="0" i="1" lang="fr-FR" sz="1800" spc="-1" strike="noStrike">
                <a:solidFill>
                  <a:srgbClr val="000099"/>
                </a:solidFill>
                <a:latin typeface="Calibri"/>
              </a:rPr>
              <a:t> à la vie en société »)</a:t>
            </a:r>
            <a:r>
              <a:rPr b="0" i="1" lang="fr-FR" sz="2400" spc="-1" strike="noStrike">
                <a:solidFill>
                  <a:srgbClr val="000099"/>
                </a:solidFill>
                <a:latin typeface="Calibri"/>
              </a:rPr>
              <a:t>, </a:t>
            </a:r>
            <a:r>
              <a:rPr b="1" lang="fr-FR" sz="2000" spc="-1" strike="noStrike">
                <a:solidFill>
                  <a:srgbClr val="ff9900"/>
                </a:solidFill>
                <a:latin typeface="Calibri"/>
              </a:rPr>
              <a:t>« situationnelle »</a:t>
            </a:r>
            <a:r>
              <a:rPr b="0" i="1" lang="fr-FR" sz="2400" spc="-1" strike="noStrike">
                <a:solidFill>
                  <a:srgbClr val="ff99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99"/>
                </a:solidFill>
                <a:latin typeface="Calibri"/>
              </a:rPr>
              <a:t>(</a:t>
            </a:r>
            <a:r>
              <a:rPr b="0" i="1" lang="fr-FR" sz="1800" spc="-1" strike="noStrike" u="sng">
                <a:solidFill>
                  <a:srgbClr val="000099"/>
                </a:solidFill>
                <a:uFillTx/>
                <a:latin typeface="Calibri"/>
              </a:rPr>
              <a:t>subie dans son environnement</a:t>
            </a:r>
            <a:r>
              <a:rPr b="0" i="1" lang="fr-FR" sz="1800" spc="-1" strike="noStrike">
                <a:solidFill>
                  <a:srgbClr val="000099"/>
                </a:solidFill>
                <a:latin typeface="Calibri"/>
              </a:rPr>
              <a:t> par une personne) et </a:t>
            </a:r>
            <a:r>
              <a:rPr b="1" lang="fr-FR" sz="2000" spc="-1" strike="noStrike">
                <a:solidFill>
                  <a:srgbClr val="ff9900"/>
                </a:solidFill>
                <a:latin typeface="Calibri"/>
              </a:rPr>
              <a:t>« psychosociale » </a:t>
            </a:r>
            <a:r>
              <a:rPr b="0" lang="fr-FR" sz="1800" spc="-1" strike="noStrike">
                <a:solidFill>
                  <a:srgbClr val="000099"/>
                </a:solidFill>
                <a:latin typeface="Calibri"/>
              </a:rPr>
              <a:t>et non plus biomédicale (</a:t>
            </a:r>
            <a:r>
              <a:rPr b="0" i="1" lang="fr-FR" sz="1800" spc="-1" strike="noStrike">
                <a:solidFill>
                  <a:srgbClr val="000099"/>
                </a:solidFill>
                <a:latin typeface="Calibri"/>
              </a:rPr>
              <a:t>en raison d'une altération substantielle, durable ou définitive d'une ou plusieurs fonctions physiques, sensorielles, mentales, cognitives ou psychiques, d'un polyhandicap ou d'un trouble de santé invalidant »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80000"/>
              </a:lnSpc>
              <a:spcBef>
                <a:spcPts val="1576"/>
              </a:spcBef>
              <a:buClr>
                <a:srgbClr val="ff6600"/>
              </a:buClr>
              <a:buSzPct val="70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alibri"/>
              </a:rPr>
              <a:t>Droit à la compensation du handicap : création d’une PCH aide humaine </a:t>
            </a:r>
            <a:r>
              <a:rPr b="0" lang="fr-FR" sz="2000" spc="-1" strike="noStrike">
                <a:solidFill>
                  <a:srgbClr val="000099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définition du </a:t>
            </a:r>
            <a:r>
              <a:rPr b="0" lang="fr-FR" sz="2000" spc="-1" strike="noStrike">
                <a:solidFill>
                  <a:srgbClr val="ff9900"/>
                </a:solidFill>
                <a:latin typeface="Calibri"/>
              </a:rPr>
              <a:t>montant de la prestation très individualisé qui repose sur </a:t>
            </a:r>
            <a:r>
              <a:rPr b="1" lang="fr-FR" sz="2000" spc="-1" strike="noStrike">
                <a:solidFill>
                  <a:srgbClr val="ff9900"/>
                </a:solidFill>
                <a:latin typeface="Calibri"/>
              </a:rPr>
              <a:t>une évaluation très précise des besoins 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– mais essentiellement </a:t>
            </a:r>
            <a:r>
              <a:rPr b="0" lang="fr-FR" sz="2000" spc="-1" strike="noStrike" u="sng">
                <a:solidFill>
                  <a:srgbClr val="000099"/>
                </a:solidFill>
                <a:uFillTx/>
                <a:latin typeface="Calibri"/>
              </a:rPr>
              <a:t>actes essentiels</a:t>
            </a:r>
            <a:r>
              <a:rPr b="0" lang="fr-FR" sz="2000" spc="-1" strike="noStrike">
                <a:solidFill>
                  <a:srgbClr val="000099"/>
                </a:solidFill>
                <a:latin typeface="Calibri"/>
              </a:rPr>
              <a:t> et bénéficient essentiellement à des situations de grande dépendance (polyhandicap, autisme sévère, etc.). Problème de critères d’éligibilité pour le handicap psychique et handicap cognitif notam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9520" y="1209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alibri"/>
              </a:rPr>
              <a:t>LA </a:t>
            </a:r>
            <a:r>
              <a:rPr b="1" lang="fr-FR" sz="3200" spc="-1" strike="noStrike">
                <a:solidFill>
                  <a:srgbClr val="000099"/>
                </a:solidFill>
                <a:latin typeface="Calibri"/>
              </a:rPr>
              <a:t>LOI DU 11 FÉVRIER 2005 </a:t>
            </a:r>
            <a:r>
              <a:rPr b="0" lang="fr-FR" sz="3200" spc="-1" strike="noStrike">
                <a:solidFill>
                  <a:srgbClr val="000099"/>
                </a:solidFill>
                <a:latin typeface="Calibri"/>
              </a:rPr>
              <a:t> « POUR L'ÉGALITÉ DES DROITS ET DES CHANCES, LA PARTICIPATION ET LA CITOYENNETÉ DES PERSONNES HANDICAPÉES »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9F5AEC4-82E0-4421-9FA3-27B943B5A4EC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Espace réservé du contenu 2"/>
          <p:cNvSpPr/>
          <p:nvPr/>
        </p:nvSpPr>
        <p:spPr>
          <a:xfrm>
            <a:off x="690480" y="2421000"/>
            <a:ext cx="761544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1576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Calibri"/>
              </a:rPr>
              <a:t>Définition d’un plan personnalisé de compensation </a:t>
            </a:r>
            <a:r>
              <a:rPr b="0" lang="fr-FR" sz="2200" spc="-1" strike="noStrike">
                <a:solidFill>
                  <a:srgbClr val="333399"/>
                </a:solidFill>
                <a:latin typeface="Calibri"/>
              </a:rPr>
              <a:t>: </a:t>
            </a:r>
            <a:r>
              <a:rPr b="1" lang="fr-FR" sz="2200" spc="-1" strike="noStrike">
                <a:solidFill>
                  <a:srgbClr val="ff9900"/>
                </a:solidFill>
                <a:latin typeface="Calibri"/>
              </a:rPr>
              <a:t>une stratégie globale d’intervention d’aides articulées</a:t>
            </a:r>
            <a:r>
              <a:rPr b="0" lang="fr-FR" sz="2200" spc="-1" strike="noStrike">
                <a:solidFill>
                  <a:srgbClr val="ff9900"/>
                </a:solidFill>
                <a:latin typeface="Calibri"/>
              </a:rPr>
              <a:t> -</a:t>
            </a:r>
            <a:r>
              <a:rPr b="0" lang="fr-FR" sz="2200" spc="-1" strike="noStrike">
                <a:solidFill>
                  <a:srgbClr val="333399"/>
                </a:solidFill>
                <a:latin typeface="Calibri"/>
              </a:rPr>
              <a:t>aides qui ne relèvent pas seulement du secteur médico-social-, pour répondre à l’ensemble des besoins identifiés)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80000"/>
              </a:lnSpc>
              <a:spcBef>
                <a:spcPts val="1576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333399"/>
                </a:solidFill>
                <a:latin typeface="Calibri"/>
              </a:rPr>
              <a:t>En s’appuyant sur </a:t>
            </a:r>
            <a:r>
              <a:rPr b="0" lang="fr-FR" sz="2200" spc="-1" strike="noStrike">
                <a:solidFill>
                  <a:srgbClr val="ff9900"/>
                </a:solidFill>
                <a:latin typeface="Calibri"/>
              </a:rPr>
              <a:t>le </a:t>
            </a:r>
            <a:r>
              <a:rPr b="1" lang="fr-FR" sz="2200" spc="-1" strike="noStrike">
                <a:solidFill>
                  <a:srgbClr val="ff9900"/>
                </a:solidFill>
                <a:latin typeface="Calibri"/>
              </a:rPr>
              <a:t>projet de vie </a:t>
            </a:r>
            <a:r>
              <a:rPr b="0" lang="fr-FR" sz="2200" spc="-1" strike="noStrike">
                <a:solidFill>
                  <a:srgbClr val="333399"/>
                </a:solidFill>
                <a:latin typeface="Calibri"/>
              </a:rPr>
              <a:t>de la personne (notion d’attentes et de parcours de vie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just">
              <a:lnSpc>
                <a:spcPct val="80000"/>
              </a:lnSpc>
              <a:spcBef>
                <a:spcPts val="1576"/>
              </a:spcBef>
              <a:buClr>
                <a:srgbClr val="99cc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333399"/>
                </a:solidFill>
                <a:latin typeface="Calibri"/>
              </a:rPr>
              <a:t>Favoriser la </a:t>
            </a:r>
            <a:r>
              <a:rPr b="1" lang="fr-FR" sz="2200" spc="-1" strike="noStrike">
                <a:solidFill>
                  <a:srgbClr val="ff9900"/>
                </a:solidFill>
                <a:latin typeface="Calibri"/>
              </a:rPr>
              <a:t>participation à la vie sociale et à la citoyenneté </a:t>
            </a:r>
            <a:r>
              <a:rPr b="0" lang="fr-FR" sz="2200" spc="-1" strike="noStrike">
                <a:solidFill>
                  <a:srgbClr val="333399"/>
                </a:solidFill>
                <a:latin typeface="Calibri"/>
              </a:rPr>
              <a:t>: quelques heures PCH aide humaine possible pour la vie sociale et création des GEM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01360" y="126828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Calibri"/>
              </a:rPr>
              <a:t>LA LOI DU 21 JUILLET 2009 PORTANT RÉFORME DE L'HÔPITAL ET RELATIVE AUX PATIENTS, À LA SANTÉ ET AUX TERRITOIRES (HPST)  : </a:t>
            </a: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ORGANISATION TERRITORIALE DU SYSTÈME DE SANTÉ </a:t>
            </a:r>
            <a:r>
              <a:rPr b="0" lang="fr-FR" sz="2900" spc="-1" strike="noStrike">
                <a:solidFill>
                  <a:srgbClr val="e75c01"/>
                </a:solidFill>
                <a:latin typeface="Calibri"/>
              </a:rPr>
              <a:t>(AU SENS LARGE)</a:t>
            </a:r>
            <a:r>
              <a:rPr b="1" lang="fr-FR" sz="2900" spc="-1" strike="noStrike">
                <a:solidFill>
                  <a:srgbClr val="e75c01"/>
                </a:solidFill>
                <a:latin typeface="Calibri"/>
              </a:rPr>
              <a:t>.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Espace réservé du numéro de diapositive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17DEAE-6C2E-46D9-9730-BEB59ED1495C}" type="slidenum">
              <a:rPr b="1" lang="fr-FR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ZoneTexte 1"/>
          <p:cNvSpPr/>
          <p:nvPr/>
        </p:nvSpPr>
        <p:spPr>
          <a:xfrm>
            <a:off x="611280" y="2484360"/>
            <a:ext cx="7848360" cy="36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e75c01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e75c01"/>
                </a:solidFill>
                <a:latin typeface="Calibri"/>
              </a:rPr>
              <a:t>Approche territoriale de la santé et l’action médico-sociale</a:t>
            </a:r>
            <a:r>
              <a:rPr b="1" lang="fr-FR" sz="2200" spc="-1" strike="noStrike">
                <a:solidFill>
                  <a:srgbClr val="ff9900"/>
                </a:solidFill>
                <a:latin typeface="Calibri"/>
              </a:rPr>
              <a:t>.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Création des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ARS.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Définition de territoires de santé, avec conférences régionales de santé. Le PRS peut aboutir à la signature de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Contrats Locaux de Santé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(dont des contrats locaux de santé mentale –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CLSM – lieu de concertation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 algn="just">
              <a:lnSpc>
                <a:spcPct val="100000"/>
              </a:lnSpc>
              <a:spcBef>
                <a:spcPts val="601"/>
              </a:spcBef>
              <a:buClr>
                <a:srgbClr val="e75c01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e75c01"/>
                </a:solidFill>
                <a:latin typeface="Calibri"/>
              </a:rPr>
              <a:t>Analyse des besoins au niveau d’un territoire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. Une nouvelle approche de la planification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(PRS) 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et de la programmation (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Appels à projets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00000"/>
              </a:lnSpc>
              <a:spcBef>
                <a:spcPts val="1199"/>
              </a:spcBef>
              <a:buClr>
                <a:srgbClr val="e75c01"/>
              </a:buClr>
              <a:buSzPct val="70000"/>
              <a:buFont typeface="Calibri"/>
              <a:buChar char="-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2200" spc="-1" strike="noStrike">
                <a:solidFill>
                  <a:srgbClr val="e75c01"/>
                </a:solidFill>
                <a:latin typeface="Calibri"/>
              </a:rPr>
              <a:t>Démocratie sanitaire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. Création des </a:t>
            </a:r>
            <a:r>
              <a:rPr b="1" lang="fr-FR" sz="2200" spc="-1" strike="noStrike">
                <a:solidFill>
                  <a:srgbClr val="000099"/>
                </a:solidFill>
                <a:latin typeface="Calibri"/>
              </a:rPr>
              <a:t>CRSA, a</a:t>
            </a:r>
            <a:r>
              <a:rPr b="0" lang="fr-FR" sz="2200" spc="-1" strike="noStrike">
                <a:solidFill>
                  <a:srgbClr val="000099"/>
                </a:solidFill>
                <a:latin typeface="Calibri"/>
              </a:rPr>
              <a:t>vec une commission des usager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33:08Z</dcterms:created>
  <dc:creator>Laetitia Lévy</dc:creator>
  <dc:description/>
  <dc:language>en-US</dc:language>
  <cp:lastModifiedBy>MINSTER Pauline</cp:lastModifiedBy>
  <cp:lastPrinted>2019-01-15T16:22:13Z</cp:lastPrinted>
  <dcterms:modified xsi:type="dcterms:W3CDTF">2019-06-28T13:45:03Z</dcterms:modified>
  <cp:revision>1898</cp:revision>
  <dc:subject/>
  <dc:title>sdsddqd</dc:title>
</cp:coreProperties>
</file>