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08E7F32-3D0E-4208-87A4-5D477AEC2FA6}" type="datetime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a0c8"/>
                </a:solidFill>
                <a:latin typeface="Verdana"/>
              </a:rPr>
              <a:t>Click to move the slide</a:t>
            </a: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E755105-0B35-4F77-96C8-5131B8FBD405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7"/>
          <p:cNvSpPr/>
          <p:nvPr/>
        </p:nvSpPr>
        <p:spPr>
          <a:xfrm>
            <a:off x="3851280" y="943128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EDDCBB-7E16-4693-9079-09FF6511801C}" type="slidenum">
              <a:rPr b="0" lang="fr-FR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8362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998800"/>
            <a:ext cx="8362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99880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42640" y="299880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84640" y="102852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12080" y="102852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99880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84640" y="299880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12080" y="2998800"/>
            <a:ext cx="269244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028520"/>
            <a:ext cx="8362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8362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40809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42640" y="1028520"/>
            <a:ext cx="40809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57240"/>
            <a:ext cx="6553080" cy="13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2640" y="1028520"/>
            <a:ext cx="40809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99880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408096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264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42640" y="299880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2640" y="1028520"/>
            <a:ext cx="408096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998800"/>
            <a:ext cx="8362800" cy="17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28520"/>
            <a:ext cx="8362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44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1" marL="1440" indent="-1440">
              <a:spcBef>
                <a:spcPts val="550"/>
              </a:spcBef>
              <a:buClr>
                <a:srgbClr val="ff9900"/>
              </a:buClr>
              <a:buFont typeface="Verdana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2" marL="1440" indent="-1440">
              <a:spcBef>
                <a:spcPts val="550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3" marL="1440" indent="-1440">
              <a:spcBef>
                <a:spcPts val="550"/>
              </a:spcBef>
              <a:buClr>
                <a:srgbClr val="00a0c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4" marL="1440" indent="-1440">
              <a:spcBef>
                <a:spcPts val="550"/>
              </a:spcBef>
              <a:buClr>
                <a:srgbClr val="0a55a0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5" marL="1440" indent="-1440">
              <a:spcBef>
                <a:spcPts val="550"/>
              </a:spcBef>
              <a:buClr>
                <a:srgbClr val="ffffff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lvl="6" marL="1440" indent="-1440">
              <a:spcBef>
                <a:spcPts val="550"/>
              </a:spcBef>
              <a:buClr>
                <a:srgbClr val="ffffff"/>
              </a:buClr>
              <a:buFont typeface="Verdan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a55a0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a0c8"/>
                </a:solidFill>
                <a:latin typeface="Verdana"/>
              </a:rPr>
              <a:t>Click to edit the title text format</a:t>
            </a:r>
            <a:endParaRPr b="1" lang="en-US" sz="1500" spc="-1" strike="noStrike">
              <a:solidFill>
                <a:srgbClr val="00a0c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7640" y="1347840"/>
            <a:ext cx="8785080" cy="14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fr-FR" sz="2400" spc="-1" strike="noStrike" baseline="30000">
                <a:solidFill>
                  <a:srgbClr val="ffffff"/>
                </a:solidFill>
                <a:latin typeface="Verdana"/>
              </a:rPr>
              <a:t>e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 rencontre de l’Autonomie</a:t>
            </a: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« Les réponses aux besoins d’accompagnement des personnes vivant à domicile » </a:t>
            </a: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16 janvier 2019</a:t>
            </a: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tre 1"/>
          <p:cNvSpPr/>
          <p:nvPr/>
        </p:nvSpPr>
        <p:spPr>
          <a:xfrm>
            <a:off x="523800" y="547560"/>
            <a:ext cx="84186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Suites et perspect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6418080" cy="4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Plan d’accompagnement départemental</a:t>
            </a:r>
            <a:endParaRPr b="1" lang="en-US" sz="22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626760"/>
            <a:ext cx="8362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34160" indent="-434160">
              <a:spcBef>
                <a:spcPts val="550"/>
              </a:spcBef>
              <a:buClr>
                <a:srgbClr val="0a55a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Co-construire un référentiel départemental en matière d’habitat inclusif : 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1</a:t>
            </a:r>
            <a:r>
              <a:rPr b="0" lang="fr-FR" sz="2200" spc="-1" strike="noStrike" u="sng" baseline="30000">
                <a:solidFill>
                  <a:srgbClr val="0a55a0"/>
                </a:solidFill>
                <a:uFillTx/>
                <a:latin typeface="Verdana"/>
              </a:rPr>
              <a:t>er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 trimestre 2019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434160" indent="-434160">
              <a:spcBef>
                <a:spcPts val="550"/>
              </a:spcBef>
              <a:buClr>
                <a:srgbClr val="0a55a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Proposer aux gestionnaires d’ESSMS une offre d’accompagnement à l’élaboration de leur projet d’habitat inclusif : 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dès janvier 2019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434160" indent="-434160">
              <a:spcBef>
                <a:spcPts val="550"/>
              </a:spcBef>
              <a:buClr>
                <a:srgbClr val="0a55a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Co-construire un outil départemental d’évaluation des besoins et aspirations des personnes en perte d’autonomie : 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pour le 31 décembre 2019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434160" indent="-434160">
              <a:spcBef>
                <a:spcPts val="550"/>
              </a:spcBef>
              <a:buClr>
                <a:srgbClr val="0a55a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Partager la connaissance sur les ressources mobilisables dans les territoires Loirétains : 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1</a:t>
            </a:r>
            <a:r>
              <a:rPr b="0" lang="fr-FR" sz="2200" spc="-1" strike="noStrike" u="sng" baseline="30000">
                <a:solidFill>
                  <a:srgbClr val="0a55a0"/>
                </a:solidFill>
                <a:uFillTx/>
                <a:latin typeface="Verdana"/>
              </a:rPr>
              <a:t>er</a:t>
            </a:r>
            <a:r>
              <a:rPr b="0" lang="fr-FR" sz="2200" spc="-1" strike="noStrike" u="sng">
                <a:solidFill>
                  <a:srgbClr val="0a55a0"/>
                </a:solidFill>
                <a:uFillTx/>
                <a:latin typeface="Verdana"/>
              </a:rPr>
              <a:t> semestre 2019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434160" indent="-4341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	</a:t>
            </a: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842760"/>
            <a:ext cx="8362800" cy="37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a55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Concertation sur un </a:t>
            </a: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référentiel partagé </a:t>
            </a: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sur l’habitat inclusif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a55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Accompagnement des projets </a:t>
            </a: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(5 à 6 projets/an)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a55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Mise en place d’</a:t>
            </a: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ateliers territoriaux </a:t>
            </a:r>
            <a:r>
              <a:rPr b="0" lang="fr-FR" sz="2200" spc="-1" strike="noStrike">
                <a:solidFill>
                  <a:srgbClr val="0a55a0"/>
                </a:solidFill>
                <a:latin typeface="Verdana"/>
              </a:rPr>
              <a:t>visant à l’expérimentation de l’outil d’évaluation et à l’élaboration d’outils de cartographie de ressources sur les territoires</a:t>
            </a:r>
            <a:endParaRPr b="0" lang="en-US" sz="2200" spc="-1" strike="noStrike">
              <a:solidFill>
                <a:srgbClr val="0a55a0"/>
              </a:solidFill>
              <a:latin typeface="Verdan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57240"/>
            <a:ext cx="6553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Les actions qui en découlent …</a:t>
            </a:r>
            <a:endParaRPr b="1" lang="en-US" sz="2200" spc="-1" strike="noStrike">
              <a:solidFill>
                <a:srgbClr val="00a0c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95120"/>
            <a:ext cx="82087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Clôture de la rencontre</a:t>
            </a:r>
            <a:endParaRPr b="1" lang="en-US" sz="22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546120" y="573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Monsieur Marc GAUD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Président du Conseil département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195120"/>
            <a:ext cx="820872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a55a0"/>
                </a:solidFill>
                <a:latin typeface="Verdana"/>
              </a:rPr>
              <a:t>Ouverture de la rencontre</a:t>
            </a:r>
            <a:endParaRPr b="1" lang="en-US" sz="2200" spc="-1" strike="noStrike">
              <a:solidFill>
                <a:srgbClr val="00a0c8"/>
              </a:solidFill>
              <a:latin typeface="Verdana"/>
            </a:endParaRPr>
          </a:p>
        </p:txBody>
      </p:sp>
      <p:sp>
        <p:nvSpPr>
          <p:cNvPr id="47" name="Titre 1"/>
          <p:cNvSpPr/>
          <p:nvPr/>
        </p:nvSpPr>
        <p:spPr>
          <a:xfrm>
            <a:off x="546120" y="573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Madame Alexandrine LECLERC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Vice-Présidente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Présidente de la Commission de l’Enfance,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es Personnes Agées et du Handica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468360" y="573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Interventions de Messieurs Pierre MONTIGN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et Jean Claude DI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Vice-Présidents du Conseil Départemental de la Citoyenneté et de l’Autonomie (CDCA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itre 1"/>
          <p:cNvSpPr/>
          <p:nvPr/>
        </p:nvSpPr>
        <p:spPr>
          <a:xfrm>
            <a:off x="546120" y="26820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Intervention de Monsieur Bruno GUYARD,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irecteur des centres sociaux de l’ASC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et de Madame Ramatou SOW, Déléguée fédéra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e la Fédération des Centres sociau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e la Région Centre-Val de Loi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*Association Socio-Culturelle Abraysien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re 1"/>
          <p:cNvSpPr/>
          <p:nvPr/>
        </p:nvSpPr>
        <p:spPr>
          <a:xfrm>
            <a:off x="546120" y="600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Intervention de Madame Carole PEINT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éléguée nationale à l’ANCREAI*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*Fédération des Centres Régionaux d‘Études d'Actions et d'Informations,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en faveur des personnes en situation de vulnérabilit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546120" y="573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É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re 1"/>
          <p:cNvSpPr/>
          <p:nvPr/>
        </p:nvSpPr>
        <p:spPr>
          <a:xfrm>
            <a:off x="546120" y="411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Interventions de Mesdames Céline FAU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et Nadège AULNA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Directrices au sein de l’Association du Cotentin d’Aide et d’Intégration Sociale (ACAIS)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tre 1"/>
          <p:cNvSpPr/>
          <p:nvPr/>
        </p:nvSpPr>
        <p:spPr>
          <a:xfrm>
            <a:off x="523800" y="547560"/>
            <a:ext cx="8418600" cy="44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Intervention de Monsieur Yohann DELAG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 </a:t>
            </a:r>
            <a:r>
              <a:rPr b="1" lang="fr-FR" sz="20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Aide Médico-Psychologique (AMP), Pôle Vie Sociale et Habitat de l’APIRJSO La Couronneri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itre 1"/>
          <p:cNvSpPr/>
          <p:nvPr/>
        </p:nvSpPr>
        <p:spPr>
          <a:xfrm>
            <a:off x="546120" y="573120"/>
            <a:ext cx="84186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a0c8"/>
                </a:solidFill>
                <a:latin typeface="Verdana"/>
                <a:ea typeface="ＭＳ Ｐゴシック"/>
              </a:rPr>
              <a:t>É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18T08:35:52Z</dcterms:created>
  <dc:creator>GUIGNARD</dc:creator>
  <dc:description/>
  <dc:language>en-US</dc:language>
  <cp:lastModifiedBy>GORCE Emilie</cp:lastModifiedBy>
  <cp:lastPrinted>2018-09-05T14:51:59Z</cp:lastPrinted>
  <dcterms:modified xsi:type="dcterms:W3CDTF">2019-01-15T10:49:23Z</dcterms:modified>
  <cp:revision>591</cp:revision>
  <dc:subject/>
  <dc:title>Diapositive 1</dc:title>
</cp:coreProperties>
</file>